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0C1D-CD91-4F00-AC4F-B0CAB987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354-D8FE-44EF-BC2E-C52F6A69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E7F-D22E-4DD3-A6BF-E078C96F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285-D3FF-405E-B895-A2F0DB0E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7BA8-505A-4E77-B201-7D4069AB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4062-A4F3-4C8D-9230-F65DDFC3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E2A1-08E7-426F-9C6D-A2EE0EF9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FCB9-0A31-41C0-B12D-F9BFB638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61B6-E7F7-4D32-89F9-2D6CEB97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41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B762-1DE0-4BD1-8046-33FE5011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FD41-A092-4F70-A0F9-E096EF21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36A-B94C-4976-BB3D-88AA96D3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FF30-9EED-4D18-96F8-3875D93A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91B7-8038-4610-BBAC-1D972258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4E1E-B1F7-40A0-B6F1-8BEAB5D2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888B-EE37-440C-A9A0-168FDEDC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C70C-DC13-4813-A10B-BAA81FFB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898F-FEEF-418D-BFE9-23FEB380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6DE4-E022-4F9D-8082-86B9E8BA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90A-888F-48CD-9084-3758E536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41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5569-E41A-40AF-AED3-2A6E4943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400-E52E-474F-9D4C-80BB1A77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9F6-E74C-41BB-A9CD-84F59530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84C-0116-4AC5-8A85-F65B2F5D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2" marL="97128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3" marL="136008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4" marL="174852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5" marL="1748520" indent="-194040">
              <a:spcBef>
                <a:spcPts val="799"/>
              </a:spcBef>
              <a:buClr>
                <a:srgbClr val="fafd00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6" marL="1748520" indent="-194040">
              <a:spcBef>
                <a:spcPts val="799"/>
              </a:spcBef>
              <a:buClr>
                <a:srgbClr val="fafd00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3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3f"/>
                </a:solidFill>
                <a:latin typeface="Arial"/>
              </a:rPr>
              <a:t>Johanna BernselPierre Cho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7C13-F901-4B68-AE9D-44F9D3F5AEA1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" name="Picture 2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6" name="Picture 2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2" marL="97128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3" marL="136008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4" marL="174852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5" marL="1748520" indent="-194040">
              <a:spcBef>
                <a:spcPts val="799"/>
              </a:spcBef>
              <a:buClr>
                <a:srgbClr val="fafd00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6" marL="1748520" indent="-194040">
              <a:spcBef>
                <a:spcPts val="799"/>
              </a:spcBef>
              <a:buClr>
                <a:srgbClr val="fafd00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200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3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3f"/>
                </a:solidFill>
                <a:latin typeface="Arial"/>
              </a:rPr>
              <a:t>Johanna Berns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51280" y="6244920"/>
            <a:ext cx="1451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09A1-EE93-406C-9BE8-A1C44612D250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circabc.europa.eu/w/browse/e1adf8de-0ad6-4484-84ec-80704391a038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ec.europa.eu/environment/biocides/" TargetMode="External"/><Relationship Id="rId2" Type="http://schemas.openxmlformats.org/officeDocument/2006/relationships/hyperlink" Target="https://circabc.europa.eu/w/browse/85cf24d4-e4d3-4b34-b59d-7a69394d0942" TargetMode="External"/><Relationship Id="rId3" Type="http://schemas.openxmlformats.org/officeDocument/2006/relationships/hyperlink" Target="http://echa.europa.eu/regulations/biocidal-products-regulation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3f"/>
                </a:solidFill>
                <a:latin typeface="Arial"/>
              </a:rPr>
              <a:t>The New Biocidal Products Regulation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3f"/>
                </a:solidFill>
                <a:latin typeface="Arial"/>
              </a:rPr>
              <a:t>Overview of the main principles and provisions</a:t>
            </a:r>
            <a:endParaRPr b="1" lang="en-US" sz="28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4146120"/>
            <a:ext cx="6400800" cy="9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3f"/>
                </a:solidFill>
                <a:latin typeface="Arial"/>
              </a:rPr>
              <a:t>06 October 2014</a:t>
            </a:r>
            <a:endParaRPr b="1" lang="en-US" sz="1800" spc="-1" strike="noStrike">
              <a:solidFill>
                <a:srgbClr val="00003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3f"/>
                </a:solidFill>
                <a:latin typeface="Arial"/>
              </a:rPr>
              <a:t>Meeting with Brazilian delegation</a:t>
            </a:r>
            <a:endParaRPr b="1" lang="en-US" sz="18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403280" y="5734080"/>
            <a:ext cx="6400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3f"/>
                </a:solidFill>
                <a:latin typeface="Arial"/>
              </a:rPr>
              <a:t>Pierre Choraine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3f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3f"/>
                </a:solidFill>
                <a:latin typeface="Arial"/>
              </a:rPr>
              <a:t>European Commission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3f"/>
                </a:solidFill>
                <a:latin typeface="Arial"/>
              </a:rPr>
              <a:t>DG Environment, Unit A.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Approval proces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pplication submitted to a Member Stat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Dossier evaluated by this Member Stat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eer-review in the Biocidal Products Committe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ECHA opinion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M decision approving the substanc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Authorisation of biocidal product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45600" y="2520720"/>
            <a:ext cx="849636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In sequence or in parallel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90 days for Member States to agree between them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Unresolved disagreements referred to co-ordination group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mmission to settle un-resolved disagreement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Refusal or adjustment possible on grounds of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3f"/>
                </a:solidFill>
                <a:latin typeface="Arial"/>
              </a:rPr>
              <a:t>protection of, e.g., environment or health, or </a:t>
            </a:r>
            <a:endParaRPr b="1" lang="en-US" sz="18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3f"/>
                </a:solidFill>
                <a:latin typeface="Arial"/>
              </a:rPr>
              <a:t>absence of target organism</a:t>
            </a:r>
            <a:endParaRPr b="1" lang="en-US" sz="18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Refusal or adjustment subject to agreement with applicant or Commission decis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5864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National authorisations and mutual recognition procedur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5B3B-70C8-4D16-995C-F9DFD235BEB5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826920" y="1014480"/>
            <a:ext cx="7490160" cy="565452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3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B040-D2FC-487E-8A03-CE2C4AC18688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340000" y="191628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3f"/>
                </a:solidFill>
                <a:latin typeface="Times New Roman"/>
              </a:rPr>
              <a:t>3900 products are now  authorised in accordance with the BP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ABA6-5DDA-4482-BB3C-5E97D28A9F93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324000" y="1380960"/>
            <a:ext cx="8496000" cy="5000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7236000" y="2997360"/>
            <a:ext cx="7617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45600" y="2276280"/>
            <a:ext cx="849636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Objective: Facilitate access to the entire EU market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uthorisation valid across EU unless explicitly restricted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roducts with similar conditions of us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Not open to substances fulfilling the exclusion criteria, rodenticides or antifouling products (Article 42(1)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rogressive phase-in period for workability until 1 January 2020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6836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Union authoris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D498-4061-44B1-A9A7-BA08586DCAEE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hase-in period for reasons of workability for ECHA and COM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From 1/9/2013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, products containing </a:t>
            </a: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new active substances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  and PTs 1,3, 4, 5,18 and 19;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From 1/1/2017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, PTs 2, 6 and 13;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From 1/1/2020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, the remaining PTs.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836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Union authoris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349000"/>
            <a:ext cx="8362800" cy="38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re-submission meeting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pplication submitted to ECHA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Dossier evaluated by evaluating competent authority chosen by applicant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Evaluation (12 months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eer-review by Biocidal Products Committee 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(6 months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ECHA opinion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M decision allowing the placing on the market of the product on the entire Union market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6836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Union authoris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Costs and Data Sharing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3680" y="2420640"/>
            <a:ext cx="8496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Objectives: Limit vertebrate testing, prevent competition distortion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Data from tests on vertebrate animal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All tox- and eco-tox studies for existing active substances for alternative suppliers and their client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rospective applicant and data owner must seek agreement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If negotiation fails, ECHA gives prospective applicant right to refer if every effort was made to reach agreement and a share of the costs incurred was paid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roportionate share of the costs to be settled by national courts</a:t>
            </a:r>
            <a:r>
              <a:rPr b="0" lang="fr-BE" sz="2000" spc="-1" strike="noStrike">
                <a:solidFill>
                  <a:srgbClr val="00003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pensation for data sharing shall be determined in a fair, transparent and non-discriminatory manner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Mandatory data shar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076F-67F7-46C9-9DAA-CB2F7C8521F0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Main principl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pproval of active substanc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uthorisation of biocidal product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sts and data sharing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Implementing legislation and guidance document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Treated</a:t>
            </a:r>
            <a:r>
              <a:rPr b="0" lang="fr-BE" sz="2400" spc="-1" strike="noStrike">
                <a:solidFill>
                  <a:srgbClr val="00003f"/>
                </a:solidFill>
                <a:latin typeface="Arial"/>
              </a:rPr>
              <a:t> articl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Mandatory cost sharing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As of 1 Sept. 2013, all active substance manufacturers or importers to submit a dossier or a letter of access to ECHA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ECHA to publish list of manufacturers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rovisional list available at: http://echa.europa.eu/information-on-chemicals/active-substance-supplier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Mandatory data and fair costs sharing to apply to all tox. and eco-tox. studies, including environmental fate and behaviour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Data protection until 31 Dec. 2025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Biocidal products containing existing active substances of manufacturers not listed by ECHA shall not be placed on the market after 1 Sept. 2015. 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Storage and use of existing stocks allowed until 1 Sept. 2016. 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petent authorities to carry out official controls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Technical equivalenc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Similarity, as regards the chemical composition and hazard profile, of a substance produced either from a </a:t>
            </a:r>
            <a:r>
              <a:rPr b="0" lang="en-GB" sz="2400" spc="-1" strike="noStrike" u="sng">
                <a:solidFill>
                  <a:srgbClr val="00003f"/>
                </a:solidFill>
                <a:uFillTx/>
                <a:latin typeface="Arial"/>
              </a:rPr>
              <a:t>source different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 to the reference source, or from the reference source but following a </a:t>
            </a:r>
            <a:r>
              <a:rPr b="0" lang="en-GB" sz="2400" spc="-1" strike="noStrike" u="sng">
                <a:solidFill>
                  <a:srgbClr val="00003f"/>
                </a:solidFill>
                <a:uFillTx/>
                <a:latin typeface="Arial"/>
              </a:rPr>
              <a:t>change to the manufacturing process and/or manufacturing location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, compared to the substance of the reference source in respect of which the initial risk assessment was carried out.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gency responsible for establishing technical equivalence (Article 54).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Implementing legislation</a:t>
            </a:r>
            <a:br>
              <a:rPr sz="3200"/>
            </a:b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and </a:t>
            </a:r>
            <a:br>
              <a:rPr sz="3200"/>
            </a:b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guidance document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395280" y="1125360"/>
            <a:ext cx="82296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3f"/>
                </a:solidFill>
                <a:latin typeface="Arial"/>
                <a:ea typeface="Arial Unicode MS"/>
              </a:rPr>
              <a:t>Implementing legisl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24000" y="1479600"/>
            <a:ext cx="845640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changes to product authorisation :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Reg. (EU) No 354/2013 of 18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 April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authorisation of same biocidal products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414/2013 of 6</a:t>
            </a:r>
            <a:r>
              <a:rPr b="0" lang="en-GB" sz="1600" spc="-1" strike="noStrike" baseline="33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May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fees to ECHA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564/2013 of 18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June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extension of duration of review programme to 2024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736/2013 of 17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May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modification on data requirements (proof of technical equivalence in BP applications)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837/2013 of 25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June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procedures for the inclusion of active substances into Annex I of the BPR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88/2014 of 31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st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January 2014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procedures for the renewal of authorisations by mutual recognition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492/2014 of 7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 March 2014 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organisation of the review programme of active substances (to replace Reg. (EU) 1451/2007)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adopted, entry into force expected by end October 2014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8388360" y="6453360"/>
            <a:ext cx="5144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2304-36FE-41E9-9846-49871B2870DF}" type="slidenum">
              <a:rPr b="0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395280" y="1125360"/>
            <a:ext cx="82296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  <a:ea typeface="Arial Unicode MS"/>
              </a:rPr>
              <a:t>Commission guidan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166680" y="1557360"/>
            <a:ext cx="86868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Work on guidance documents or proposals on various topics :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Management of nanomaterials: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f2d79b34-2f5a-4bb4-97e8-b982c9def765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Guidance on fees payable to Member States</a:t>
            </a: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: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b5c900a2-ef66-4a46-996d-00d5a29aee9a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Guidance on similar conditions of use, for the Union authorisation </a:t>
            </a: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: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00b0f0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2ac21f0f-d790-4667-9358-1bcd0db0b35e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Guidance on treated articles: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e1adf8de-0ad6-4484-84ec-80704391a038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Document on comparative assessment :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d309607f-f75b-46e7-acc4-1653cadcaf7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Other Guidance under discussion :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Borderline between biocidal products and cosmetics :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6283ad7a-7416-4b83-a201-92ba58224222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"/>
              </a:rPr>
              <a:t>etc.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8388360" y="6453360"/>
            <a:ext cx="5144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05AC-997D-46D1-AECB-C74D703860FC}" type="slidenum">
              <a:rPr b="0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Treated Article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000" y="2708280"/>
            <a:ext cx="849636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Objective: Protection of health and environment, level playing field between production within vs outside of the EU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llowed on the market only if all the active substances are approved for the relevant us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Labelling requirement for certain articl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Readiness to provide consumer informa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Control of articles treated with biocidal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3908-8CF1-450B-B7ED-32684398ADA9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46B8-437D-4DC8-BEEA-4DCDE587B049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600360" cy="2695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3635280" y="3514680"/>
            <a:ext cx="458172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395280" y="12762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Definitions and scop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E960-5044-4C61-BC6C-8DBDB8A227AF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455760" y="2708280"/>
            <a:ext cx="8496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Definition of "treated articles"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Substance, mixture or article, </a:t>
            </a:r>
            <a:r>
              <a:rPr b="0" i="1" lang="en-GB" sz="2000" spc="-1" strike="noStrike">
                <a:solidFill>
                  <a:srgbClr val="00003f"/>
                </a:solidFill>
                <a:latin typeface="Arial"/>
              </a:rPr>
              <a:t>i.e.,</a:t>
            </a: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 not only articles within the meaning of the REACH Regul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Treated with or intentionally incorporating biocid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Excluded from the substantive ru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ntainer fumigation where no residues rema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Transitional rul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Substance/product-type combinations that have not yet been approved are allowed in treated articles if: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The substance/product-type combination is still in the review programme for existing active substance, or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n application for approval of the substance/product-type is submitted before 1 September 2016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3640" y="2519280"/>
            <a:ext cx="806436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uthorisation required prior to placing on the market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pproval of biocidal active substances at EU level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National product authorisation with mutual recogni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Industry responsible for submitting data allowing evalua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National rules apply during the programme for review of existing active substanc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79520" y="143820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Main princip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A2A2-D92E-443C-BE85-09113EC4E8D8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395280" y="105264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Labelling require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457200" y="1973160"/>
            <a:ext cx="822960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900" spc="-1" strike="noStrike">
                <a:solidFill>
                  <a:srgbClr val="00003f"/>
                </a:solidFill>
                <a:latin typeface="Arial"/>
              </a:rPr>
              <a:t>Labelling is required if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Claim is made regarding </a:t>
            </a:r>
            <a:r>
              <a:rPr b="0" lang="en-GB" sz="1900" spc="-1" strike="noStrike" u="sng">
                <a:solidFill>
                  <a:srgbClr val="00003f"/>
                </a:solidFill>
                <a:uFillTx/>
                <a:latin typeface="Arial"/>
              </a:rPr>
              <a:t>biocidal properties of the article</a:t>
            </a: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, or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Conditions of substance approval so require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900" spc="-1" strike="noStrike">
                <a:solidFill>
                  <a:srgbClr val="00003f"/>
                </a:solidFill>
                <a:latin typeface="Arial"/>
              </a:rPr>
              <a:t>Information to be provided in the national language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Statement that article incorporates biocides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Biocidal property of the article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Name of all active substances and all nanomaterials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Instructions for use to protect man and environment, where appropriate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900" spc="-1" strike="noStrike">
                <a:solidFill>
                  <a:srgbClr val="00003f"/>
                </a:solidFill>
                <a:latin typeface="Arial"/>
              </a:rPr>
              <a:t>Instructions for use</a:t>
            </a: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, on any article where necessary to protect man or environment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900" spc="-1" strike="noStrike">
                <a:solidFill>
                  <a:srgbClr val="00003f"/>
                </a:solidFill>
                <a:latin typeface="Arial"/>
              </a:rPr>
              <a:t>Obligation for suppliers to give some information at the request of a consumer within 45 days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B49F-8800-4906-8355-46143D955750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Treated articles considered biocidal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360360" y="2421000"/>
            <a:ext cx="822960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00003f"/>
                </a:solidFill>
                <a:latin typeface="Arial"/>
              </a:rPr>
              <a:t>Treated articles having 'primary biocidal function' (Article 3(1)(a)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Biocidal function = the function of controlling harmful organisms by other than mere physical or mechanical a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Biocidal treatment for preservation of the article itself ≠ biocidal fun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rimary = of first rank or importance compared with another fun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ncept to be clarified on case-by-case basis (Article 3(3)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riteria to be taken into consideration: intended use, claim regarding the function, concentration of active subst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562B-8544-4690-9DF8-4FABFE32DF5C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Issues open to interpre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395280" y="2421000"/>
            <a:ext cx="822960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Notion of primary biocidal fun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plex articles of which only parts have been trea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munication obligations further down the supply cha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Level of scrutiny of different uses of treated articles for the purpose of active substance approv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mission guidance on treated article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 u="sng">
                <a:solidFill>
                  <a:srgbClr val="693f00"/>
                </a:solidFill>
                <a:uFillTx/>
                <a:latin typeface="Arial"/>
                <a:hlinkClick r:id="rId1"/>
              </a:rPr>
              <a:t>https://circabc.europa.eu/w/browse/e1adf8de-0ad6-4484-84ec-80704391a03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86E2-2FF2-41AC-B945-2B24B66978CA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333360" y="1079640"/>
            <a:ext cx="8305920" cy="53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GB" sz="1800" spc="-1" strike="noStrike">
                <a:solidFill>
                  <a:srgbClr val="00003f"/>
                </a:solidFill>
                <a:latin typeface="Arial"/>
              </a:rPr>
              <a:t>For further information: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n-GB" sz="1800" spc="-1" strike="noStrike">
                <a:solidFill>
                  <a:srgbClr val="00003f"/>
                </a:solidFill>
                <a:latin typeface="Arial"/>
              </a:rPr>
              <a:t>Commission website  on biocides: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1800" spc="-1" strike="noStrike" u="sng">
                <a:solidFill>
                  <a:srgbClr val="693f00"/>
                </a:solidFill>
                <a:uFillTx/>
                <a:latin typeface="Arial"/>
                <a:hlinkClick r:id="rId1"/>
              </a:rPr>
              <a:t>http://ec.europa.eu/environment/biocides/</a:t>
            </a:r>
            <a:r>
              <a:rPr b="1" lang="en-GB" sz="1800" spc="-1" strike="noStrike" u="sng">
                <a:solidFill>
                  <a:srgbClr val="00003f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n-GB" sz="1800" spc="-1" strike="noStrike">
                <a:solidFill>
                  <a:srgbClr val="00003f"/>
                </a:solidFill>
                <a:latin typeface="Arial"/>
              </a:rPr>
              <a:t>CIRCABC public space on biocides: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1800" spc="-1" strike="noStrike" u="sng">
                <a:solidFill>
                  <a:srgbClr val="693f00"/>
                </a:solidFill>
                <a:uFillTx/>
                <a:latin typeface="Arial"/>
                <a:hlinkClick r:id="rId2"/>
              </a:rPr>
              <a:t>https://circabc.europa.eu/w/browse/85cf24d4-e4d3-4b34-b59d-7a69394d0942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n-GB" sz="1800" spc="-1" strike="noStrike">
                <a:solidFill>
                  <a:srgbClr val="00003f"/>
                </a:solidFill>
                <a:latin typeface="Arial"/>
              </a:rPr>
              <a:t>ECHA website &amp; Helpdesk on Biocides: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1800" spc="-1" strike="noStrike" u="sng">
                <a:solidFill>
                  <a:srgbClr val="693f00"/>
                </a:solidFill>
                <a:uFillTx/>
                <a:latin typeface="Arial"/>
                <a:hlinkClick r:id="rId3"/>
              </a:rPr>
              <a:t>http://echa.europa.eu/regulations/biocidal-products-regulation</a:t>
            </a:r>
            <a:r>
              <a:rPr b="1" lang="en-GB" sz="1800" spc="-1" strike="noStrike" u="sng">
                <a:solidFill>
                  <a:srgbClr val="fafd00"/>
                </a:solidFill>
                <a:uFillTx/>
                <a:latin typeface="Arial"/>
              </a:rPr>
              <a:t> </a:t>
            </a:r>
            <a:r>
              <a:rPr b="1" lang="en-GB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Line 2"/>
          <p:cNvSpPr/>
          <p:nvPr/>
        </p:nvSpPr>
        <p:spPr>
          <a:xfrm>
            <a:off x="684360" y="1197000"/>
            <a:ext cx="8208720" cy="144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701D-FDBB-4B6D-98AC-76E72FF9CBB7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3680" y="2349000"/>
            <a:ext cx="84960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rovide scientific and technical support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ordinate substance approval, Union authorisa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Secretariat for BPC and the Coordination group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IT platform (R4BP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Electronic submission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Data dissemina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Data sharing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Technical equivalenc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List of (alternative) suppliers of active substanc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Helpdesk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The European Chemicals Agency (ECHA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0970-22DB-4F9E-BD95-6A9DB644FC52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Approval of active substance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496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Hazard based exclusion criteria (Article 5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Objective : exclude active substances of very high concern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MR category 1A or 1B, PBT, vPvB, endocrine disruptor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The principle: cannot be approved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The derogation: approval possible 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if exposure negligible, substance essential or non-approval has disproportionate negative impact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subject to risk mitigation measures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only for Member States where needed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for maximum 5 years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as candidate for substitution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Approval of active substan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4B52-2AAD-4164-A210-E2A7F3BAAA14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45600" y="2491920"/>
            <a:ext cx="8496360" cy="39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Substitution criteria (Article 10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Objective: Substitution of substances of high concern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riteria: Exclusion criteria, other properties of high concern (Art 10) 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Approved for a maximum of 7 year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parative assessment at product authorisation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Alternatives must present significantly lower risk, be sufficiently effective, present no significant disadvantage, and provide sufficient chemical diversity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ossible derogation for a maximum of 4 years in order to gain experience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Approval of active substan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C6A1-53D9-457C-BE77-2972EA090754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Review programme for existing</a:t>
            </a:r>
            <a:br>
              <a:rPr sz="3200"/>
            </a:b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 active substance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24000" y="1014480"/>
            <a:ext cx="855000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5T12:23:40Z</dcterms:created>
  <dc:creator>Johanna Bernsel</dc:creator>
  <dc:description/>
  <dc:language>en-US</dc:language>
  <cp:lastModifiedBy>CHORAINE Pierre (ENV)</cp:lastModifiedBy>
  <cp:lastPrinted>2013-12-18T14:48:35Z</cp:lastPrinted>
  <dcterms:modified xsi:type="dcterms:W3CDTF">2014-10-09T11:26:03Z</dcterms:modified>
  <cp:revision>723</cp:revision>
  <dc:subject>Revision of the Biocides Directive</dc:subject>
  <dc:title>AT Conference Nov12</dc:title>
</cp:coreProperties>
</file>