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183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18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6208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28800" y="746280"/>
            <a:ext cx="4962240" cy="372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6120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6208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85100BF-7A2F-4EE3-8E31-E374A0AD72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2034F4F-6766-40FD-A3C0-B238422758A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28800" y="7462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6120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7136173-34DC-470D-A06B-043AA0FF730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28800" y="7462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7160" indent="-227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28800" y="7462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6120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F5161AB-A558-4BCC-A8F2-A826A4C2639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28800" y="7462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6120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F262801-8A19-4E0D-9BC2-51431725B0D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28800" y="7462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6120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A29C045-99EE-4937-8FCF-D6C2C6D345D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24DE-F5A0-4410-8E07-BB018A9A3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0FA8-A61E-4C43-A3C0-B398C86F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CE3F-B0ED-4A8E-A8B8-3F90D58A7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154D-85EB-4EEE-A8F5-414F470D6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DF5B-36BB-428E-A51A-37DA26E93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51686-AEEB-4B5F-932C-5BC63DAB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EB5D-CA1E-4802-92E4-A6C19EC2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F2813-F03E-4524-8941-8204EAF8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B79B-299C-471B-9043-0B1C3538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35C57-4FD7-48C6-BCFC-95CB109A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499C-B766-4DEF-AC59-42242B98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9CE2-694B-42C9-B3E2-0BACB1FB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C28E-D0D4-4E43-9288-7F81A626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A4CF-6BBD-41EC-A907-A44D4403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CB8D-DD08-485F-B31E-EF9D849A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8680-1332-4609-9ADC-EE2C78F9B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E702-0104-48BA-8A5F-B9B21C091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D750-03C3-4C69-B017-3C5F67FF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5ADB-5D8D-42A4-82DF-69B76650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D5CF-3566-4712-83EB-AB2670EB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D025-DFD5-4B92-9184-6622286F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1CE1-FE29-4088-9700-85726DBB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D189-5A81-4830-B9A7-1C323749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5AF3-9B98-4506-9A33-AE0A0606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C017-BDD6-43D1-A099-6078EE2D70A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140360" y="6426360"/>
            <a:ext cx="610920" cy="431640"/>
          </a:xfrm>
          <a:prstGeom prst="rect">
            <a:avLst/>
          </a:prstGeom>
          <a:solidFill>
            <a:srgbClr val="afc551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BE" sz="600" spc="-1" strike="noStrike">
                <a:solidFill>
                  <a:srgbClr val="ffffff"/>
                </a:solidFill>
                <a:latin typeface="Verdana"/>
              </a:rPr>
              <a:t>Health and</a:t>
            </a:r>
            <a:endParaRPr b="0" lang="en-US" sz="6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BE" sz="600" spc="-1" strike="noStrike">
                <a:solidFill>
                  <a:srgbClr val="ffffff"/>
                </a:solidFill>
                <a:latin typeface="Verdana"/>
              </a:rPr>
              <a:t>Consumers</a:t>
            </a:r>
            <a:endParaRPr b="0" lang="en-US" sz="600" spc="-1" strike="noStrike">
              <a:solidFill>
                <a:srgbClr val="ffd624"/>
              </a:solidFill>
              <a:latin typeface="Verdana"/>
            </a:endParaRPr>
          </a:p>
        </p:txBody>
      </p:sp>
      <p:grpSp>
        <p:nvGrpSpPr>
          <p:cNvPr id="7" name="Group 15"/>
          <p:cNvGrpSpPr/>
          <p:nvPr/>
        </p:nvGrpSpPr>
        <p:grpSpPr>
          <a:xfrm>
            <a:off x="3849840" y="258840"/>
            <a:ext cx="1436400" cy="1004760"/>
            <a:chOff x="3849840" y="258840"/>
            <a:chExt cx="1436400" cy="1004760"/>
          </a:xfrm>
        </p:grpSpPr>
        <p:pic>
          <p:nvPicPr>
            <p:cNvPr id="8" name="Picture 8" descr="LOGO CE_Vertical_EN_NEG_quadri_HR"/>
            <p:cNvPicPr/>
            <p:nvPr/>
          </p:nvPicPr>
          <p:blipFill>
            <a:blip r:embed="rId2"/>
            <a:stretch/>
          </p:blipFill>
          <p:spPr>
            <a:xfrm>
              <a:off x="3849840" y="258840"/>
              <a:ext cx="143640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Rectangle 13"/>
            <p:cNvSpPr/>
            <p:nvPr/>
          </p:nvSpPr>
          <p:spPr>
            <a:xfrm>
              <a:off x="4141800" y="1222200"/>
              <a:ext cx="622440" cy="36720"/>
            </a:xfrm>
            <a:prstGeom prst="rect">
              <a:avLst/>
            </a:prstGeom>
            <a:solidFill>
              <a:srgbClr val="afc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600" spc="-1" strike="noStrike">
                <a:solidFill>
                  <a:srgbClr val="ffd624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1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grpSp>
        <p:nvGrpSpPr>
          <p:cNvPr id="47" name="Group 20"/>
          <p:cNvGrpSpPr/>
          <p:nvPr/>
        </p:nvGrpSpPr>
        <p:grpSpPr>
          <a:xfrm>
            <a:off x="3849840" y="258840"/>
            <a:ext cx="1436400" cy="1000080"/>
            <a:chOff x="3849840" y="258840"/>
            <a:chExt cx="1436400" cy="1000080"/>
          </a:xfrm>
        </p:grpSpPr>
        <p:pic>
          <p:nvPicPr>
            <p:cNvPr id="48" name="Picture 6" descr="LOGO CE-EN-quadri.eps"/>
            <p:cNvPicPr/>
            <p:nvPr/>
          </p:nvPicPr>
          <p:blipFill>
            <a:blip r:embed="rId2"/>
            <a:stretch/>
          </p:blipFill>
          <p:spPr>
            <a:xfrm>
              <a:off x="3849840" y="258840"/>
              <a:ext cx="143640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Rectangle 14"/>
            <p:cNvSpPr/>
            <p:nvPr/>
          </p:nvSpPr>
          <p:spPr>
            <a:xfrm>
              <a:off x="4145040" y="1222200"/>
              <a:ext cx="619200" cy="36720"/>
            </a:xfrm>
            <a:prstGeom prst="rect">
              <a:avLst/>
            </a:prstGeom>
            <a:solidFill>
              <a:srgbClr val="afc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600" spc="-1" strike="noStrike">
                <a:solidFill>
                  <a:srgbClr val="ffd624"/>
                </a:solidFill>
                <a:latin typeface="Verdana"/>
              </a:endParaRPr>
            </a:p>
          </p:txBody>
        </p:sp>
      </p:grpSp>
      <p:sp>
        <p:nvSpPr>
          <p:cNvPr id="50" name="Rectangle 16"/>
          <p:cNvSpPr/>
          <p:nvPr/>
        </p:nvSpPr>
        <p:spPr>
          <a:xfrm>
            <a:off x="4140360" y="6426360"/>
            <a:ext cx="610920" cy="431640"/>
          </a:xfrm>
          <a:prstGeom prst="rect">
            <a:avLst/>
          </a:prstGeom>
          <a:solidFill>
            <a:srgbClr val="afc551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BE" sz="600" spc="-1" strike="noStrike">
                <a:solidFill>
                  <a:srgbClr val="ffffff"/>
                </a:solidFill>
                <a:latin typeface="Verdana"/>
              </a:rPr>
              <a:t>Health and</a:t>
            </a:r>
            <a:endParaRPr b="0" lang="en-US" sz="6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BE" sz="600" spc="-1" strike="noStrike">
                <a:solidFill>
                  <a:srgbClr val="ffffff"/>
                </a:solidFill>
                <a:latin typeface="Verdana"/>
              </a:rPr>
              <a:t>Consumers</a:t>
            </a:r>
            <a:endParaRPr b="0" lang="en-US" sz="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32CF-2460-4C14-AEED-4C81B4E7E96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c.europa.eu/food/plant/pesticides/sustainable_use_pesticides/index_en.htm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1760" y="1717560"/>
            <a:ext cx="8788680" cy="23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d624"/>
                </a:solidFill>
                <a:latin typeface="Verdana"/>
              </a:rPr>
              <a:t>Sustainable Use of Pesticides in the EU: </a:t>
            </a:r>
            <a:br>
              <a:rPr sz="4000"/>
            </a:br>
            <a:r>
              <a:rPr b="1" lang="en-GB" sz="4000" spc="-1" strike="noStrike">
                <a:solidFill>
                  <a:srgbClr val="ffd624"/>
                </a:solidFill>
                <a:latin typeface="Verdana"/>
              </a:rPr>
              <a:t>Directive 2009/128/EC</a:t>
            </a:r>
            <a:endParaRPr b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652320" y="4818240"/>
            <a:ext cx="8001000" cy="13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  <a:ea typeface="Arial"/>
              </a:rPr>
              <a:t>Karin Nienstedt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  <a:ea typeface="Arial"/>
              </a:rPr>
              <a:t>DG Health and Consumers / SANCO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  <a:ea typeface="Arial"/>
              </a:rPr>
              <a:t>Unit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Arial"/>
              </a:rPr>
              <a:t> E3 – Chemicals, contaminants, pesticides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Arial"/>
              </a:rPr>
              <a:t>6 October 2014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135900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b050"/>
                </a:solidFill>
                <a:latin typeface="Verdana"/>
              </a:rPr>
              <a:t>EU legislative framework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682560" y="981000"/>
            <a:ext cx="3097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157320" y="2460600"/>
            <a:ext cx="201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5ec1"/>
                </a:solidFill>
                <a:latin typeface="Verdana"/>
                <a:ea typeface="Arial"/>
              </a:rPr>
              <a:t>Placing on the market of plant protection products</a:t>
            </a:r>
            <a:endParaRPr b="0" lang="en-US" sz="2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2239920" y="5740560"/>
            <a:ext cx="434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5ec1"/>
                </a:solidFill>
                <a:latin typeface="Verdana"/>
                <a:ea typeface="Arial"/>
              </a:rPr>
              <a:t>Technical requirements for machinery</a:t>
            </a:r>
            <a:endParaRPr b="0" lang="en-US" sz="2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7031160" y="4124160"/>
            <a:ext cx="1830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5ec1"/>
                </a:solidFill>
                <a:latin typeface="Verdana"/>
                <a:ea typeface="Arial"/>
              </a:rPr>
              <a:t>Maximum residue levels of pesticides</a:t>
            </a:r>
            <a:endParaRPr b="0" lang="en-US" sz="2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174600" y="4543560"/>
            <a:ext cx="204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5ec1"/>
                </a:solidFill>
                <a:latin typeface="Verdana"/>
                <a:ea typeface="Arial"/>
              </a:rPr>
              <a:t>Collection </a:t>
            </a:r>
            <a:br>
              <a:rPr sz="2000"/>
            </a:br>
            <a:r>
              <a:rPr b="1" lang="en-GB" sz="2000" spc="-1" strike="noStrike">
                <a:solidFill>
                  <a:srgbClr val="2d5ec1"/>
                </a:solidFill>
                <a:latin typeface="Verdana"/>
                <a:ea typeface="Arial"/>
              </a:rPr>
              <a:t>of statistics</a:t>
            </a:r>
            <a:endParaRPr b="0" lang="en-US" sz="2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7" name="AutoShape 15"/>
          <p:cNvSpPr/>
          <p:nvPr/>
        </p:nvSpPr>
        <p:spPr>
          <a:xfrm flipH="1">
            <a:off x="6268320" y="4505400"/>
            <a:ext cx="785880" cy="449280"/>
          </a:xfrm>
          <a:prstGeom prst="rightArrow">
            <a:avLst>
              <a:gd name="adj1" fmla="val 50000"/>
              <a:gd name="adj2" fmla="val 437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8" name="AutoShape 17"/>
          <p:cNvSpPr/>
          <p:nvPr/>
        </p:nvSpPr>
        <p:spPr>
          <a:xfrm>
            <a:off x="2198520" y="2716200"/>
            <a:ext cx="543240" cy="549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9" name="Text Box 19"/>
          <p:cNvSpPr/>
          <p:nvPr/>
        </p:nvSpPr>
        <p:spPr>
          <a:xfrm>
            <a:off x="6800760" y="2496960"/>
            <a:ext cx="202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5ec1"/>
                </a:solidFill>
                <a:latin typeface="Verdana"/>
                <a:ea typeface="Arial"/>
              </a:rPr>
              <a:t>Sustainable use of pesticides</a:t>
            </a:r>
            <a:endParaRPr b="0" lang="en-US" sz="2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10" name="AutoShape 25"/>
          <p:cNvSpPr/>
          <p:nvPr/>
        </p:nvSpPr>
        <p:spPr>
          <a:xfrm flipH="1" rot="5400000">
            <a:off x="4269600" y="5393520"/>
            <a:ext cx="37296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11" name="AutoShape 31"/>
          <p:cNvSpPr/>
          <p:nvPr/>
        </p:nvSpPr>
        <p:spPr>
          <a:xfrm flipH="1" rot="10776000">
            <a:off x="2003040" y="4514760"/>
            <a:ext cx="785880" cy="449280"/>
          </a:xfrm>
          <a:prstGeom prst="rightArrow">
            <a:avLst>
              <a:gd name="adj1" fmla="val 50000"/>
              <a:gd name="adj2" fmla="val 437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12" name="Picture 32" descr=""/>
          <p:cNvPicPr/>
          <p:nvPr/>
        </p:nvPicPr>
        <p:blipFill>
          <a:blip r:embed="rId1"/>
          <a:stretch/>
        </p:blipFill>
        <p:spPr>
          <a:xfrm>
            <a:off x="2843280" y="2419200"/>
            <a:ext cx="3322440" cy="294984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33"/>
          <p:cNvSpPr/>
          <p:nvPr/>
        </p:nvSpPr>
        <p:spPr>
          <a:xfrm rot="10800000">
            <a:off x="6194520" y="2674800"/>
            <a:ext cx="542880" cy="549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8"/>
          <p:cNvSpPr/>
          <p:nvPr/>
        </p:nvSpPr>
        <p:spPr>
          <a:xfrm>
            <a:off x="1727280" y="2111400"/>
            <a:ext cx="3662280" cy="1401840"/>
          </a:xfrm>
          <a:custGeom>
            <a:avLst/>
            <a:gdLst>
              <a:gd name="textAreaLeft" fmla="*/ 0 w 3662280"/>
              <a:gd name="textAreaRight" fmla="*/ 3662640 w 3662280"/>
              <a:gd name="textAreaTop" fmla="*/ 0 h 1401840"/>
              <a:gd name="textAreaBottom" fmla="*/ 1402200 h 140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2281320" y="2289240"/>
            <a:ext cx="303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MS PGothic"/>
              </a:rPr>
              <a:t>Directive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MS PGothic"/>
              </a:rPr>
              <a:t>  2009/128/EC</a:t>
            </a:r>
            <a:endParaRPr b="0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MS PGothic"/>
              </a:rPr>
              <a:t> </a:t>
            </a:r>
            <a:endParaRPr b="0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16" name="Picture 15" descr="MS"/>
          <p:cNvPicPr/>
          <p:nvPr/>
        </p:nvPicPr>
        <p:blipFill>
          <a:blip r:embed="rId1"/>
          <a:stretch/>
        </p:blipFill>
        <p:spPr>
          <a:xfrm>
            <a:off x="1812960" y="3824280"/>
            <a:ext cx="1225440" cy="7905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038400" y="3962520"/>
            <a:ext cx="506592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f5494"/>
                </a:solidFill>
                <a:latin typeface="Verdana"/>
              </a:rPr>
              <a:t>Implementation by </a:t>
            </a:r>
            <a:r>
              <a:rPr b="1" lang="it-IT" sz="2000" spc="-1" strike="noStrike">
                <a:solidFill>
                  <a:srgbClr val="0f5494"/>
                </a:solidFill>
                <a:latin typeface="Verdana"/>
              </a:rPr>
              <a:t>Nov 2011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85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f5494"/>
                </a:solidFill>
                <a:latin typeface="Verdana"/>
              </a:rPr>
              <a:t>National Action Plans </a:t>
            </a:r>
            <a:r>
              <a:rPr b="1" lang="it-IT" sz="2000" spc="-1" strike="noStrike">
                <a:solidFill>
                  <a:srgbClr val="0f5494"/>
                </a:solidFill>
                <a:latin typeface="Verdana"/>
              </a:rPr>
              <a:t>Nov 2012 </a:t>
            </a:r>
            <a:r>
              <a:rPr b="0" lang="it-IT" sz="2000" spc="-1" strike="noStrike">
                <a:solidFill>
                  <a:srgbClr val="0f5494"/>
                </a:solidFill>
                <a:latin typeface="Verdana"/>
              </a:rPr>
              <a:t>(revised at least every 5 years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85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TextBox 1"/>
          <p:cNvSpPr/>
          <p:nvPr/>
        </p:nvSpPr>
        <p:spPr>
          <a:xfrm>
            <a:off x="1362600" y="5567400"/>
            <a:ext cx="617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0000"/>
                </a:solidFill>
                <a:latin typeface="Verdana"/>
                <a:ea typeface="Arial"/>
              </a:rPr>
              <a:t>Directive: national approaches in implementation + subsidiarity</a:t>
            </a: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0000"/>
                </a:solidFill>
                <a:latin typeface="Verdana"/>
                <a:ea typeface="Arial"/>
              </a:rPr>
              <a:t>"framework" Directive</a:t>
            </a: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19" name="Right Arrow 2"/>
          <p:cNvSpPr/>
          <p:nvPr/>
        </p:nvSpPr>
        <p:spPr>
          <a:xfrm>
            <a:off x="636480" y="599760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1047600" y="2254320"/>
            <a:ext cx="79250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484200" y="2381760"/>
            <a:ext cx="2886120" cy="31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5494"/>
                </a:solidFill>
                <a:latin typeface="Verdana"/>
                <a:ea typeface="MS PGothic"/>
              </a:rPr>
              <a:t>Reduce impacts on humans and the environment </a:t>
            </a:r>
            <a:endParaRPr b="0" lang="en-US" sz="22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5494"/>
                </a:solidFill>
                <a:latin typeface="Verdana"/>
                <a:ea typeface="MS PGothic"/>
              </a:rPr>
              <a:t>+ </a:t>
            </a:r>
            <a:endParaRPr b="0" lang="en-US" sz="22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f5494"/>
                </a:solidFill>
                <a:latin typeface="Verdana"/>
                <a:ea typeface="MS PGothic"/>
              </a:rPr>
              <a:t>promote the use of low pesticides-input pest management </a:t>
            </a:r>
            <a:endParaRPr b="0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4062240" y="3645000"/>
            <a:ext cx="882720" cy="523800"/>
          </a:xfrm>
          <a:prstGeom prst="rightArrow">
            <a:avLst>
              <a:gd name="adj1" fmla="val 50000"/>
              <a:gd name="adj2" fmla="val 421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4070520" y="3740040"/>
            <a:ext cx="94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MS PGothic"/>
              </a:rPr>
              <a:t>Tools</a:t>
            </a: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4" name="Oval 8"/>
          <p:cNvSpPr/>
          <p:nvPr/>
        </p:nvSpPr>
        <p:spPr>
          <a:xfrm>
            <a:off x="5581800" y="1363680"/>
            <a:ext cx="430200" cy="4777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1</a:t>
            </a: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5" name="Oval 9"/>
          <p:cNvSpPr/>
          <p:nvPr/>
        </p:nvSpPr>
        <p:spPr>
          <a:xfrm>
            <a:off x="5573880" y="1844640"/>
            <a:ext cx="430200" cy="4777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6" name="Oval 10"/>
          <p:cNvSpPr/>
          <p:nvPr/>
        </p:nvSpPr>
        <p:spPr>
          <a:xfrm>
            <a:off x="5573880" y="2325600"/>
            <a:ext cx="430200" cy="479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3</a:t>
            </a: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7" name="Oval 11"/>
          <p:cNvSpPr/>
          <p:nvPr/>
        </p:nvSpPr>
        <p:spPr>
          <a:xfrm>
            <a:off x="5581800" y="2830680"/>
            <a:ext cx="430200" cy="475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4</a:t>
            </a: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8" name="Oval 12"/>
          <p:cNvSpPr/>
          <p:nvPr/>
        </p:nvSpPr>
        <p:spPr>
          <a:xfrm>
            <a:off x="5573880" y="3328920"/>
            <a:ext cx="430200" cy="47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5</a:t>
            </a: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9" name="Oval 13"/>
          <p:cNvSpPr/>
          <p:nvPr/>
        </p:nvSpPr>
        <p:spPr>
          <a:xfrm>
            <a:off x="5581800" y="3814920"/>
            <a:ext cx="430200" cy="47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6</a:t>
            </a: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0" name="Oval 14"/>
          <p:cNvSpPr/>
          <p:nvPr/>
        </p:nvSpPr>
        <p:spPr>
          <a:xfrm>
            <a:off x="5581800" y="4324320"/>
            <a:ext cx="430200" cy="47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7</a:t>
            </a: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1" name="Oval 15"/>
          <p:cNvSpPr/>
          <p:nvPr/>
        </p:nvSpPr>
        <p:spPr>
          <a:xfrm>
            <a:off x="5581800" y="4827600"/>
            <a:ext cx="430200" cy="4777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8</a:t>
            </a: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2" name="Oval 16"/>
          <p:cNvSpPr/>
          <p:nvPr/>
        </p:nvSpPr>
        <p:spPr>
          <a:xfrm>
            <a:off x="5581800" y="5332320"/>
            <a:ext cx="430200" cy="47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</a:t>
            </a: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3" name="Text Box 17"/>
          <p:cNvSpPr/>
          <p:nvPr/>
        </p:nvSpPr>
        <p:spPr>
          <a:xfrm>
            <a:off x="5977080" y="1438200"/>
            <a:ext cx="12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MS PGothic"/>
              </a:rPr>
              <a:t>Training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4" name="Text Box 18"/>
          <p:cNvSpPr/>
          <p:nvPr/>
        </p:nvSpPr>
        <p:spPr>
          <a:xfrm>
            <a:off x="6032520" y="1932120"/>
            <a:ext cx="90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MS PGothic"/>
              </a:rPr>
              <a:t>Sales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6032520" y="2413080"/>
            <a:ext cx="212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MS PGothic"/>
              </a:rPr>
              <a:t>Awareness raising 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6" name="Text Box 20"/>
          <p:cNvSpPr/>
          <p:nvPr/>
        </p:nvSpPr>
        <p:spPr>
          <a:xfrm>
            <a:off x="6033960" y="2908440"/>
            <a:ext cx="182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MS PGothic"/>
              </a:rPr>
              <a:t>Equipment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7" name="Text Box 21"/>
          <p:cNvSpPr/>
          <p:nvPr/>
        </p:nvSpPr>
        <p:spPr>
          <a:xfrm>
            <a:off x="6058080" y="3400560"/>
            <a:ext cx="21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MS PGothic"/>
              </a:rPr>
              <a:t>Aerial applications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8" name="Text Box 22"/>
          <p:cNvSpPr/>
          <p:nvPr/>
        </p:nvSpPr>
        <p:spPr>
          <a:xfrm>
            <a:off x="6033960" y="3807000"/>
            <a:ext cx="171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MS PGothic"/>
              </a:rPr>
              <a:t>Aquatic environment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9" name="Text Box 23"/>
          <p:cNvSpPr/>
          <p:nvPr/>
        </p:nvSpPr>
        <p:spPr>
          <a:xfrm>
            <a:off x="5934240" y="4384800"/>
            <a:ext cx="22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MS PGothic"/>
              </a:rPr>
              <a:t>Protected areas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0" name="Text Box 24"/>
          <p:cNvSpPr/>
          <p:nvPr/>
        </p:nvSpPr>
        <p:spPr>
          <a:xfrm>
            <a:off x="5965920" y="4776840"/>
            <a:ext cx="242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MS PGothic"/>
              </a:rPr>
              <a:t>Handling, storage, disposal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1" name="Text Box 25"/>
          <p:cNvSpPr/>
          <p:nvPr/>
        </p:nvSpPr>
        <p:spPr>
          <a:xfrm>
            <a:off x="6046920" y="5335560"/>
            <a:ext cx="128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MS PGothic"/>
              </a:rPr>
              <a:t>IPM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2" name="Oval 16"/>
          <p:cNvSpPr/>
          <p:nvPr/>
        </p:nvSpPr>
        <p:spPr>
          <a:xfrm>
            <a:off x="5583240" y="5829480"/>
            <a:ext cx="430200" cy="47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10</a:t>
            </a: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6068880" y="5810400"/>
            <a:ext cx="1935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MS PGothic"/>
              </a:rPr>
              <a:t>Harmonised risk indicators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Verdana"/>
              </a:rPr>
              <a:t>Main action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Training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Professional PPP users, distributors and advisors get proper training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EU countries establish certification systems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(Dec 2013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9fb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Symbol"/>
                <a:ea typeface="Symbol"/>
              </a:rPr>
              <a:t>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support: "Better Training Safer Food" Programm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Sal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PPP sale only by trained people (certificate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No sale of professional PPPs to people without certificat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Verdana"/>
              </a:rPr>
              <a:t>Main action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nspection of equipment in us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98400" indent="-2685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ll PAE inspected at least once by 2016, then every 5 years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(after 2020 every 3 years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98400" indent="-2685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Harmonised standards for inspection of PAE under development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(CEN mandate / ISO standards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9fb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Symbol"/>
                <a:ea typeface="Symbol"/>
              </a:rPr>
              <a:t>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support: "Better Training Safer Food" Programm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Aerial spraying is prohibite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98400" indent="-2685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…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but derogations are possible under some conditions. Warning of residents essential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Verdana"/>
              </a:rPr>
              <a:t>Main action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2312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ntegrated pest manageme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General IPM principles (Annex III) mandatory for professional users since 1 January 2014.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f5494"/>
                </a:solidFill>
                <a:latin typeface="Verdana"/>
              </a:rPr>
              <a:t>MS to guarantee conditions for IPM (e.g. information tools, advisory services) + incentiv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f5494"/>
                </a:solidFill>
                <a:latin typeface="Verdana"/>
              </a:rPr>
              <a:t>MS to report by 2013 to COM on IPM implement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Handling, storage, disposa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Recovery and disposal of PPP remnants and packaging according to waste legisl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Storage areas should prevent unwanted releases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Verdana"/>
              </a:rPr>
              <a:t>Main action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nformation and awareness raising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Measures to inform the general public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systems to gather information on acute and chronic poisoning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f5494"/>
                </a:solidFill>
                <a:latin typeface="Verdana"/>
              </a:rPr>
              <a:t>Monitoring – strategic guidance under develop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inimising use or banning of PPP use in critical areas for environmental and health reason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f5494"/>
                </a:solidFill>
                <a:latin typeface="Verdana"/>
              </a:rPr>
              <a:t>water, public parcs, schools, protected natural areas, etc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28400" y="1328760"/>
            <a:ext cx="8011800" cy="20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ec.europa.eu/food/plant/pesticides/sustainable_use_pesticides/index_en.htm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53" name="Picture 6" descr="question-mark1a"/>
          <p:cNvPicPr/>
          <p:nvPr/>
        </p:nvPicPr>
        <p:blipFill>
          <a:blip r:embed="rId2"/>
          <a:stretch/>
        </p:blipFill>
        <p:spPr>
          <a:xfrm>
            <a:off x="3057480" y="2695680"/>
            <a:ext cx="26290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8T15:30:30Z</dcterms:created>
  <dc:creator/>
  <dc:description/>
  <dc:language>en-US</dc:language>
  <cp:lastModifiedBy/>
  <dcterms:modified xsi:type="dcterms:W3CDTF">2014-10-06T10:22:04Z</dcterms:modified>
  <cp:revision>1</cp:revision>
  <dc:subject/>
  <dc:title/>
</cp:coreProperties>
</file>