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331-D4FC-467F-9248-E33FF202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72F-9E6E-446D-AC41-E78DC14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61A-F5EB-4BEB-A13F-C4E7D29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481-FB58-409D-A826-F06E525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C449-0E3F-47E7-BED4-EFA25B7C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D820-8F29-445B-8ED8-F6D42F2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7A6-B149-4E5F-A757-1DD4477E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13D-E74A-4CE0-95A8-C829557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BCDC-F704-4F32-83D5-B7A94C7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BBAA-94AB-42A0-93EB-2F84AC0E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6A73-3FD1-43AB-BD24-540C731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1F4-12B4-4FC0-9CDC-218C462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9A3-43EA-4F9A-AA08-5CA8D05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C5B1-C909-45B6-A106-C700631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11C-A3B6-47A5-A50A-806ECEEE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4146-7015-4C71-AF5D-4BEB2885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2B4-B14B-4D76-93CC-CA16F0DB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65-145C-428D-B26D-1AE8289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2C3-B972-463F-8624-86EC92B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465-756F-445A-942C-43B481A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A70-4DA1-42F6-94CE-721E2A2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7AB-44AA-4EAD-B946-1C17556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6AC-7B8E-4318-8FAE-0109BB23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F75-54C9-4779-9B52-4D78E42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8653-7CD6-4B95-ACEF-1400E2C408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55C-8155-416A-9182-4742F43896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index_en.htm" TargetMode="External"/><Relationship Id="rId2" Type="http://schemas.openxmlformats.org/officeDocument/2006/relationships/hyperlink" Target="http://ec.europa.eu/sanco_pesticides" TargetMode="External"/><Relationship Id="rId3" Type="http://schemas.openxmlformats.org/officeDocument/2006/relationships/hyperlink" Target="http://eur-lex.europa.eu/legal-content/PT/TXT/PDF/?uri=CELEX:32009R1107&amp;rid=1" TargetMode="External"/><Relationship Id="rId4" Type="http://schemas.openxmlformats.org/officeDocument/2006/relationships/hyperlink" Target="http://eur-lex.europa.eu/legal-content/PT/TXT/PDF/?uri=CELEX:32009R1107&amp;rid=1" TargetMode="External"/><Relationship Id="rId5" Type="http://schemas.openxmlformats.org/officeDocument/2006/relationships/hyperlink" Target="http://eur-lex.europa.eu/legal-content/PT/TXT/PDF/?uri=CELEX:32009R1107&amp;rid=1" TargetMode="External"/><Relationship Id="rId6" Type="http://schemas.openxmlformats.org/officeDocument/2006/relationships/hyperlink" Target="http://eur-lex.europa.eu/legal-content/PT/TXT/PDF/?uri=CELEX:32009R1107&amp;rid=1" TargetMode="External"/><Relationship Id="rId7" Type="http://schemas.openxmlformats.org/officeDocument/2006/relationships/hyperlink" Target="http://eur-lex.europa.eu/legal-content/PT/TXT/PDF/?uri=CELEX:32013R0283&amp;rid=4" TargetMode="External"/><Relationship Id="rId8" Type="http://schemas.openxmlformats.org/officeDocument/2006/relationships/hyperlink" Target="http://eur-lex.europa.eu/legal-content/PT/TXT/PDF/?uri=CELEX:32013R0283&amp;rid=4" TargetMode="External"/><Relationship Id="rId9" Type="http://schemas.openxmlformats.org/officeDocument/2006/relationships/hyperlink" Target="http://eur-lex.europa.eu/legal-content/PT/TXT/PDF/?uri=CELEX:32013R0283&amp;rid=4" TargetMode="External"/><Relationship Id="rId10" Type="http://schemas.openxmlformats.org/officeDocument/2006/relationships/hyperlink" Target="http://eur-lex.europa.eu/legal-content/PT/TXT/PDF/?uri=CELEX:32013R0283&amp;rid=4" TargetMode="External"/><Relationship Id="rId11" Type="http://schemas.openxmlformats.org/officeDocument/2006/relationships/hyperlink" Target="http://eur-lex.europa.eu/legal-content/PT/TXT/PDF/?uri=CELEX:32013R0284&amp;rid=5" TargetMode="External"/><Relationship Id="rId12" Type="http://schemas.openxmlformats.org/officeDocument/2006/relationships/hyperlink" Target="http://eur-lex.europa.eu/legal-content/PT/TXT/PDF/?uri=CELEX:32013R0284&amp;rid=5" TargetMode="External"/><Relationship Id="rId13" Type="http://schemas.openxmlformats.org/officeDocument/2006/relationships/hyperlink" Target="http://eur-lex.europa.eu/legal-content/PT/TXT/PDF/?uri=CELEX:32013R0284&amp;rid=5" TargetMode="External"/><Relationship Id="rId14" Type="http://schemas.openxmlformats.org/officeDocument/2006/relationships/hyperlink" Target="http://eur-lex.europa.eu/legal-content/PT/TXT/PDF/?uri=CELEX:32013R0284&amp;rid=5" TargetMode="External"/><Relationship Id="rId15" Type="http://schemas.openxmlformats.org/officeDocument/2006/relationships/hyperlink" Target="http://eur-lex.europa.eu/legal-content/PT/TXT/PDF/?uri=CELEX:32011R0546&amp;rid=1" TargetMode="External"/><Relationship Id="rId16" Type="http://schemas.openxmlformats.org/officeDocument/2006/relationships/hyperlink" Target="http://eur-lex.europa.eu/legal-content/PT/TXT/PDF/?uri=CELEX:32011R0546&amp;rid=1" TargetMode="External"/><Relationship Id="rId17" Type="http://schemas.openxmlformats.org/officeDocument/2006/relationships/hyperlink" Target="http://eur-lex.europa.eu/legal-content/PT/TXT/PDF/?uri=CELEX:32011R0546&amp;rid=1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2808000"/>
            <a:ext cx="8697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d624"/>
                </a:solidFill>
                <a:latin typeface="Verdana"/>
              </a:rPr>
              <a:t>The EU regulatory system on placing plant protection products on the market</a:t>
            </a: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09680" y="1281240"/>
            <a:ext cx="68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Technical Mission from Brazil "Control and Regulation of Pesticides and Biocides"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6-11 October 201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33280" y="531648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Wolfgang Reine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Health and Consumers Directorate-Gener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Unit Chemicals, contaminants, pesticide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96320" cy="506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7510320" cy="498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uthorisation of plant protection produ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uthoris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5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assessing applications, MS evluate active substance- and product-dossier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granting authorisations, MS set out the requirements for placing on the market, e.g.: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onditions of use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label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S enforce compliance with the authoris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ommission monitors and controls MS activiti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" name="Picture 4" descr="eur-map_amended"/>
          <p:cNvPicPr/>
          <p:nvPr/>
        </p:nvPicPr>
        <p:blipFill>
          <a:blip r:embed="rId1"/>
          <a:stretch/>
        </p:blipFill>
        <p:spPr>
          <a:xfrm>
            <a:off x="971640" y="1819440"/>
            <a:ext cx="7416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2006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An authorisation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ust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all other MS of the same zone, on applic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t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ay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MS of the other two zon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uring recognition, some parts of the authorisation may be adapted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n assessing an application, a MS shall consult all other MS of its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For new applications, only one application per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ifferent time periods for authorisation (12+6 months) and  mutual recognition (120 day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Harmonisation of decision-making standard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7840" y="2168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hallenge to create a level playing field between 28 MS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The following standards are harmonised on EU level: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Positive list of active substances (safeners and synergists) for use in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active substanc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Labelling requirements, including standard phrases for special risks and for safety precau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Uniform principles for evaluation and decision making of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62000" y="1247760"/>
            <a:ext cx="88106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9960" y="127080"/>
            <a:ext cx="7210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9684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f5494"/>
                </a:solidFill>
                <a:latin typeface="Verdana"/>
              </a:rPr>
              <a:t>Useful link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5640" y="136224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G Health and Consumers website on pesticides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index_en.htm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Pesticides database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sanco_pesticid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1107/2009 on placing PPP on the market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ri=CELEX:32009R1107&amp;rid=1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283/2013 &amp; 542/2011 on data requirements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uri=CELEX:32013R0283&amp;rid=4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ri=CELEX:32013R0284&amp;rid=5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546/2011 on uniform principles for evaluation and decision-making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?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uri=CELEX:32011R0546&amp;rid=1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irective 2009/128/EC on sustainable use of pesticid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619255&amp;uri=CELEX:02009L0128-20091125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396/2005 on pesticide residu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532173&amp;uri=CELEX:02005R0396-20140202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5520" y="2754360"/>
            <a:ext cx="6446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Thank you very much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for your attention!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303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6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08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0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1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102"/>
                            </p:stCondLst>
                            <p:childTnLst>
                              <p:par>
                                <p:cTn id="314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6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7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105000" y="1552680"/>
            <a:ext cx="3629160" cy="32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419200" y="1249200"/>
            <a:ext cx="5078520" cy="378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1200" y="5086440"/>
            <a:ext cx="868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esticide” often used synonymously to agricultural pesticid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epending on the use, different legislative frameworks can apply to the same pesticide active substance  within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1552680"/>
            <a:ext cx="2178000" cy="72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stici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AO-definition)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99" name="Straight Arrow Connector 5"/>
          <p:cNvCxnSpPr>
            <a:stCxn id="98" idx="3"/>
          </p:cNvCxnSpPr>
          <p:nvPr/>
        </p:nvCxnSpPr>
        <p:spPr>
          <a:xfrm>
            <a:off x="2418840" y="1912680"/>
            <a:ext cx="1001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e lifecycle of a PP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7600" y="1989000"/>
            <a:ext cx="8308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528480" y="3546360"/>
            <a:ext cx="7632720" cy="2971080"/>
            <a:chOff x="528480" y="3546360"/>
            <a:chExt cx="7632720" cy="2971080"/>
          </a:xfrm>
        </p:grpSpPr>
        <p:sp>
          <p:nvSpPr>
            <p:cNvPr id="103" name="Text Box 7"/>
            <p:cNvSpPr/>
            <p:nvPr/>
          </p:nvSpPr>
          <p:spPr>
            <a:xfrm>
              <a:off x="528480" y="35622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(EC) No 1107/2009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3263760" y="3546360"/>
              <a:ext cx="216036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irective 128/2009/EC on Sustainable Use of Pesticid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on Pesticide Statistic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Amended Machinery Directive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000840" y="3562200"/>
              <a:ext cx="2160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MRL Regulation (396/2005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egislation on Chemicals (chemical waste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Dual pre-marketing author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32080" y="2327400"/>
            <a:ext cx="6279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91680" cy="482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1209240"/>
            <a:ext cx="5367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traight Connector 2"/>
          <p:cNvSpPr/>
          <p:nvPr/>
        </p:nvSpPr>
        <p:spPr>
          <a:xfrm>
            <a:off x="343080" y="5334120"/>
            <a:ext cx="817236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487440" y="2000160"/>
            <a:ext cx="8191440" cy="4623840"/>
            <a:chOff x="487440" y="2000160"/>
            <a:chExt cx="8191440" cy="46238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2000160"/>
              <a:ext cx="8191440" cy="45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"/>
            <p:cNvSpPr/>
            <p:nvPr/>
          </p:nvSpPr>
          <p:spPr>
            <a:xfrm>
              <a:off x="3343320" y="3290760"/>
              <a:ext cx="29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a2100"/>
                  </a:solidFill>
                  <a:latin typeface="Verdana"/>
                </a:rPr>
                <a:t>(Draft Assessment Report)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15" name="TextBox 1"/>
            <p:cNvSpPr/>
            <p:nvPr/>
          </p:nvSpPr>
          <p:spPr>
            <a:xfrm>
              <a:off x="554040" y="625572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01a58"/>
                  </a:solidFill>
                  <a:latin typeface="Verdana"/>
                </a:rPr>
                <a:t>&amp; all M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pprov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77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aft Assessment Report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(by 1 rapporteur Member State) and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SA Conclus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stablishes, whether the substance fulfil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general criteria for approval; and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PP and their residues are not expected to have harmful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ffects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human health or groundwater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unacceptabl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fects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on th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nvironment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for at least on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representative us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contain restrictions or condi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Normally valid for 10 years, renewal of approval for 15 year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be reviewed at any tim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Special approva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Low risk active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economic incentives (longer aproval, shorter time to market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decision </a:t>
            </a:r>
            <a:r>
              <a:rPr b="0" i="1" lang="de-DE" sz="18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; no presumption of safety - concep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Candidate for Substitutio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 having more critical profile than average, e.g. 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significantly lower ADI, ARfD or AOEL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s meeting certain hazard criteria (2/3 PBT criteria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horter approval period (7 years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Comparative assessment at PPP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Basic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t predominantly used in plant protection and no concer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 authorisation require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Hazard elements in decision-mak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ut-off criteria were introduced as initial step of decision-making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based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environmental issues, e.g.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BT, vPvB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O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iven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health issues: 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 C, M, R cat.1 under Reg. (EC) No 1272/2008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Endocrine disruptor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Risk elements: not applicable in case of negligible exposur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a serious danger to plant health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EINERT Wolfgang (SANCO)</cp:lastModifiedBy>
  <cp:lastPrinted>2014-10-03T09:20:43Z</cp:lastPrinted>
  <dcterms:modified xsi:type="dcterms:W3CDTF">2014-10-05T14:51:58Z</dcterms:modified>
  <cp:revision>341</cp:revision>
  <dc:subject/>
  <dc:title>Slide 1</dc:title>
</cp:coreProperties>
</file>