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5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.jpeg" ContentType="image/jpeg"/>
  <Override PartName="/ppt/media/image5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340A-1FA0-47A9-B949-0A880CE8C6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4E2-5863-4263-BA7D-7FDE27B309F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07A-1E3B-465D-8133-36875920445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B25-6F34-4012-801E-3686E2F44F2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DD1C-1ED4-40D4-AFF4-DC79CDA02BC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65C-C704-44FC-8D72-F1C1FB912CCA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RL setting and consumer risk assessment for all uses resulting in residues in food or f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02B4-8FF2-46AF-BA2E-C5AEE5E25E6F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7B47-F4F3-4829-A477-40B1C002B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462B-2771-4D35-8BBD-065D24478A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34FE3-E5F4-4C08-BEF8-5F3661B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84BF5-87CF-4CF7-997C-A83D009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E88EA-D631-4FD3-A16B-7B2CEE9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508FA-4D8B-4DAF-8E9B-BD9D78F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969A8-842E-4911-8220-900B7B4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6FDBB-5F84-4481-8A4C-FC9F2A75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4691F-725B-402C-BC2A-7FFDE73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68B6A-5092-4795-BC0F-CD2B16E6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0C867-F535-4348-9E00-64D25F05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0423D-AE51-4E8B-89F6-61EA759F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C4F2-169A-4546-964E-00962EEF1D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A4A71-07BF-4AB0-9185-8BEDDC8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4C669-C53E-4254-AA35-18DC480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5E143-5F65-407D-A299-6A36DAB4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0F651-F1BB-4002-87E0-180047A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FBA69-673D-4337-A2B5-BF5F63C2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192E64-80AB-4809-A045-AF7B1F8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6E59E5-CFFC-4CD0-89CB-198FEC7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111EA-9BB2-4259-9097-F2A2448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88F61-5245-4B61-A4F4-11D615F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A3830-1738-4A46-BC33-0AE87853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19F0-4919-4C49-A7C8-C5475EB879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B03FD-144C-4FFE-B611-44C2A496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C178ED-1A98-4F0A-BE0C-29C02A5A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7D6CC-CAB4-4F46-B08F-A878DDA0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3FE65-C36F-4F05-A523-201DA1C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A32B1-48E3-49F7-AB1F-BE11149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A00A1-A041-48A2-9EE7-30EE3235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3DBF1-DB11-4B12-9A65-63A46635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1B87A-8B3F-408F-AD73-48806D61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C7A81-1861-4319-9CDD-31405AB5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333A8-3207-437D-B7E1-2981F50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8499C-BE17-43AE-9C1F-8614BCB4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89726-5836-4B87-AEF6-AEA5BAE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98A63-D9D1-4995-A22F-344434C4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5880C-A9CD-42F9-933C-FA6D8032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C6531C-F498-4FAC-AF90-3CD034B0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5E7E94-41CA-4803-8B3A-C727D39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E22107-F5A4-4FA3-BFF3-5AA9FE3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5AFA8-5FBE-4974-B6B2-58EB1A8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3CD24-BAD0-4416-9594-AEB0379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530738-0F94-41C8-868B-1A14655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82DF17-9EE9-4C49-B47A-3829210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2FD1-1A51-4E83-849B-37E2BCEF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6B8C1F-98B5-4CBB-A8B0-B184297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482BA-217B-4309-AE7E-745760B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F74C0F-FC03-46F3-87DE-FBB41F63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3BE7BA-93F8-4CE1-A0C5-E36DD1F3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0656D-DC8A-43F6-935A-C4438051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F10FA-BA34-4047-9651-3720BA66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C11932-115B-4F63-B544-6BD46A7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C5AA2-E6C9-4081-930F-7862FA1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7FDACB-429D-4A0F-8826-5426E616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5413E-18AC-4E3D-9E53-3357B461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A7088-DF6A-4287-B3F5-D368618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A07B6-3F36-48F6-8751-55962484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BEC5A-23D4-430F-ACEC-5F81886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F88C6-C811-4E8E-9D05-B38144E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4DEE7F-A086-49F3-8C0C-2DF5616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5951CD-2952-4DEF-B8B3-FDBABAC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E0FBC0-E4FC-4E3D-A380-BE9D0B7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2AE7A-95D0-42F1-BCCB-850887B1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F1EB6B-2BC2-47B2-A009-B4D940FF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146CE-E367-47E0-8E35-F20C6DCD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CB8447-DCB5-42CC-B602-B7E843A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C064-4A0B-4E70-8278-6B079AC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500D4A-F73C-4421-8D33-2B8C81E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02917-D98C-4402-A187-7D39CAC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E6324E-A947-41EA-B1D2-48AC575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4D425-3FD3-49C7-B13F-12B7601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185A49-2ECB-4102-9FA5-7225A39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0F3932-CCF0-4560-B8CE-E8CAFFE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0C7619-55A5-4A9F-AD22-01ADF9B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E6780-EE32-484B-B5ED-FE2055B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BF9658-1356-4205-A5C9-AB23F339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FFA532-FF95-4E57-9E0E-25902760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6C60E-197F-4300-BEC1-6DA5856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40F23C-255D-4072-A90D-E31F754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1429E-1B67-44D5-8C79-4F1815A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8B83F0-B74F-492E-9310-78797FD2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2E1777-5D80-40AE-A287-1AAFEA35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849A53-E965-45B8-857F-BF59A19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19CC97-25CD-4455-A897-2702A52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698E29-1B4E-4C5F-A022-DD53320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F964AD-733C-48AD-9474-55B7AC4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7C8479-B6FB-4651-9BFE-C5FB05A8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FE1D59-5BF8-4348-A2E8-CCF30264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97E4C-FD0C-423E-A48C-C673B06E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68C7C3-141E-44F4-9ED9-8C9BA961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F24F70-8E94-4B82-8716-4DCC078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8C654E-69E6-498C-99F9-AD3E076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7710E4-4409-47BC-84F6-267E360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517AE7-A875-46B0-8CFF-E8AAAEA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DD287F-6164-444A-9F67-6CFCB91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129F78-FE09-47EF-9980-AA7E19B6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8DE319-DFD9-4A4C-A98D-8CDABDC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CAB029-0916-4C31-900D-7CCBF2D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0C6098-C7B0-4856-80B9-FEFC2BC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3569F-CA9A-44FC-9128-999D903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3C6ADD-16EE-479C-AAD3-EC1E644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855489-86E9-42D7-A046-01240EB4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29DFEE-31AD-4173-8582-46F9BC2D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A78C11-4F7C-40F0-84CC-DC185C22C42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CD446B-5410-44FA-821D-A1F3AFE14C7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20C846-F6D3-493F-9700-373298116DC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DB1E50-2C55-49B7-92D8-BD4DB879B74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27D0C5-3B11-46A7-9902-3DECBDD2EB9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4BDDD6-EC12-4C4B-B6F7-C7086B87A3D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B0E62B-50B6-422A-8D4F-CC7DE1409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622E-A378-4080-9738-5336E1599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93A04-B2F1-44B9-BA0C-4E6991F3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5FE79A-7911-41AD-8DCA-52FC6B0D2CE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A04A6B-BD90-4517-A173-AF2F49F6A6E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C2F62C-2504-4EBF-99C3-6D17AB1608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24791A-E798-4FD9-911D-7647C50D3FC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711EB1-FC3D-4FDA-8679-454030C1B6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CD02BC-247C-45D6-AA17-69BACD112BD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87FF32-D027-4E92-B2DF-EA30CBAB071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41F201-2243-441C-AEEF-5D6244C2BD6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522B1D-4864-4FAF-BA0A-8C83C41F7B6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0F2085-DB1B-4FC1-BAFA-C8F9585C02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6872E-FBDF-48EE-8B04-0CEE4E1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B599E7-F403-493E-9F52-18CD541DEB1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A8BA4D-EAAE-49FA-BBE1-88096BBA3F9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BB909-96A3-4A27-826C-03948DA485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8A71CF-FEEF-4081-8F5C-7966945A36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FBABE2-E7D0-43D8-8251-CCDA93CC558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09C067-FBD5-4974-861C-640C362233B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6CB3A4-47FD-47AA-9769-4709220592C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57CF9F-E165-4851-B42B-11EEA3A2B4F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DA1FDD-CE27-4DEC-B4DE-71F7DC95082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5A47B4-B48C-43EF-80A7-F13CED5F7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350EC-9567-480D-93FB-802DCF23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3CC5F7-0D4D-4E89-A735-7110D2A4ECE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7C233A-0247-44C4-8317-028DD0C9470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B03AF7-CDD6-422B-A1E4-20EAB26F87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72E61E-5AA4-408C-A490-6CFE51E23A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87F358-FDB4-4D8D-B9C1-73C5BB543FB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521CDF-19C1-4687-ABB3-2AD92C6744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A89279-4E33-4F3D-84E6-BB4854CF209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801AF8-9330-4F89-9B7A-6F0B332824F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39474E-8069-45C3-93FD-2436076E69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7C3B5B-C050-40FA-919A-E76A37A6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601C-2A86-4B84-BB89-FF27313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DC0E67-A77D-462A-A957-F5542B8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F8C8B8-2188-472A-AC7C-278678D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E6EE91-D6DA-4F47-AAEA-864A84F8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2B9347-9409-4C18-AFDB-6491CBC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111CB7-8AA1-4C6D-93FC-28CC1E1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7BD18D-03D7-4F89-84E9-575DC3F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0D2971-EE32-4036-8F85-5AD8BB01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EB1CDA-0802-457C-86AF-EAB2044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3EC340-3319-4656-A36E-0988F6DB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A9F377-6999-4FB9-8D3A-995792E3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80ED-BECD-4BE6-9EF9-15016248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756F83-80A1-4AD0-B54D-32F0F9F1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A0D872-BB87-48DB-A908-F808014D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D034FB-8097-4F6D-80CC-323526B8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0ADC7B-C579-47C2-B6A0-FDDDA3C9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E2F76E-236F-429B-8E85-910699FD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2A3260-B40A-4BE7-8A68-7E34F615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83125DB-C0D3-4C4A-BAF7-D4CD68C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00283F-8422-4A7A-8E34-3352083E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F2F21D-218D-4224-89F3-54CEF58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892FAF-54C4-4046-8876-9E58674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33F03-EB67-480D-ACC7-0C583372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C6FE4F-3AAD-4AB2-93A2-C543162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015F80-78F2-48E7-B5E6-3F364326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7A43D5-2FA5-449F-8948-AEEE817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5DEC375-9454-4A61-BA95-5ACA733D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FB691D-2FB3-4B85-8CC2-84E3F41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7B849F-9335-4384-880E-73E0E42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F59BD1-C085-48F2-B725-06355A7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8C9B9A-5D32-4129-A604-F6C885B0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0628AD-4C8E-48A6-9D70-B9EFC8D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DD177B-A0C7-4083-9CE4-4CC6BE1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03F37-815F-4398-97AC-C24552A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78AB52-BF62-4837-9D74-6C64805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E475FA-6D8F-4CD6-BD3B-62E1238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137F10-85FA-49BC-A5F3-31FC6A3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8E6777-566A-40C5-9E22-46653BB5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AC7E4B-14E1-4D07-9659-CBE5D9D4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41BB9A-06E6-4CB6-8F47-B4A7A353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095218-852D-424D-85D7-72FA74E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1BE0A3-EF00-4908-8F97-C8DCB94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AF6096-22E8-4DE7-A9FE-C6BD841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1E98BE-C7EB-4966-8596-CD6C135E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3A972-ECD2-456E-A15D-73620B34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6C0092-FDE2-47F9-B3A2-592849E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019993-081E-41D7-89BB-9913033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D7B5F6-DBAD-4311-94ED-85E18C95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065819-97AC-4BA9-84CD-24F9A4A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035C2C-6287-493A-AD9F-B1032C3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810727-C816-4BED-AF90-EBDC4FA3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683990-543A-4F9B-B67C-94EF3952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5288E41-B9D6-4D47-B56D-CE18CE58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6C9758-BE5C-4AAD-AD66-10FA02C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02616C-58F0-4EC5-99EE-117295A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0311F-951A-44A0-A997-7C42E28C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F5B824-CED1-4CD9-A83A-2C0EA9F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0D9BDF-F0CB-4EEF-B4D4-C0BBF5C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335F8F-B623-4970-BA0D-70369D8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37628A-9793-4BD5-B8E9-7A61499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A7F5FF-58CB-437B-B360-5069EDD1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E65A20-84EF-453C-8EDC-4EC157F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D4A895-A111-4388-BCE0-5ABA302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D04B03-10B5-4FCF-B35F-217C2B5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BD38D5A-46F2-4876-8672-5304C0F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11CD912-E96C-44A9-B3FB-608CADC2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47E59-8FD6-4250-920B-8BE1CB4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391F78-A6D8-4555-B401-BA79D28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37BDD9-095D-4477-8432-68E463A8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F707417-B8C8-4A22-B11D-95D63C3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93BDEA-88CD-4B22-8BDF-D259F6A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5231107-47AF-464F-988A-B1D9175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43A054-E8C0-4ACA-B702-1A9AFAD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7785E6-9DD8-4C29-AFB8-E6FC417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43F98D-4D69-48A9-A2F3-7247B36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5DDFD1-3784-4D96-A93D-8114FDF1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E8A30B-5466-4C80-8581-2BF47AD9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7FF1-0C1F-46DD-9FE0-175E8A4BEB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3A158-48C1-4711-B27D-9F06F61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6877E8-C0A1-444B-92AE-BE03583C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F8755C-A51F-450A-9AAE-4B10E52C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8153B8-6447-475C-A21A-93B213D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0D390D-82B0-44EE-ABD9-1F47F4E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E1045B-EA58-4102-B938-70DFDB16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33CBA0-AC76-4487-B626-055E22B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E4DD39-AC74-4DF4-83D9-E4298258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3CE116-76D3-4992-955E-7A1F53D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5170A6-84F6-49C2-B372-F5D5516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57A7714-9243-4F86-AF28-CB4899F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81938-65DC-4859-BAC9-8D77FC3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10C461-703D-4D07-8258-4691D55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1273A7-F9B4-4A4E-91F7-00F5E0F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65967F4-402C-413D-BE5A-7EE0DB8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F693298-4D73-406F-A70D-A67B5EB5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74E16A1-5EB1-451C-8162-A7DBD9B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10F378-FB46-4BF7-A9A7-66CDB4E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B72B84-2FC9-4D23-82CD-99B2A777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7114CF-F9D2-4629-9F95-C0DFECF2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2C8F43-5780-488E-9207-6266113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205CDC-140A-44EA-9CB3-2E52CC6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41AC4-4D81-4E96-964F-EABDD7FC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C45076-8E70-497D-B47C-A9CD6C0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4CEB92-4AD9-4497-8045-35A1BC5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A858C1-9656-40B0-85FA-267905F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C0CF06-82D0-4C27-B4D7-0D13F14A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CA0538-9170-44CB-B655-0710C301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695E5B-F9B7-4BD6-A227-A032DC0F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7B73C93-645C-4F02-91A5-8FAEAD3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EA8834-17AB-465C-8F57-8A7B763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A15C74-2B9B-4370-8048-5ACDA57E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F0A6E7-3D47-42F4-9AA5-089C71E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86CAB-E880-4150-97B2-2A88BB7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4F5138-2D31-4864-A308-18949E7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C12822-653B-451A-993D-E4EE868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7A5DB8-3C20-422F-95DD-DF29A9E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D64DCE-19EE-4585-AEB7-BD9EE27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F412163-9F09-43BF-82FE-79552B6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295A3A-2AF6-4E3A-9C8E-35EEA7C7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DD2F1D1-7EF4-42D6-8D2A-0CB316DF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C6D0C9-1E9A-4D17-85CE-182CA8EBE1A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E0D497-930E-415B-9D66-A53F543B3EB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ED4CA-E4A3-4AE2-8BA0-F71F566851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89C87-A62A-4B47-8288-C780930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B363D-DE66-4E23-9C23-FAB30259B37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FB5E55-486B-44DE-A0EA-456F996561D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5B0A6D-2458-4ABD-BA36-F0261E30757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340B4E-765E-4971-B0CA-0728A2A073E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9B76A-EEF1-41A4-B1CB-3FFAB8957F6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E03800-1016-4374-ABD6-7A4B3B98832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596FA0-5A32-4E49-91E7-ADDE5E06C8D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F3B2C3-56F6-4B42-B395-9BA95C5447B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89348-273D-4D51-AA1C-0B9A13EBF3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52170-5A74-4EFA-8545-B00F1F86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280C8-67E1-483E-BCFD-34C486F8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CF42-DB4B-4757-8211-E7EC037F5B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16E6-1793-4EF7-9EB8-51856DE745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C248-D33D-4E1D-BDA5-DFE8F4008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FD51-0469-40BF-ABAE-ECD38A2F07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CF7B-6B3B-4A63-82B6-3B5743781E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D357-00C5-4983-85C7-1921E881E7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AAC5-B91C-4228-9674-A2E0C60D17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7F02-F5AE-409D-B59D-28967F1E11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010F-0A47-4366-ACE8-2283AAF296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F02F-A68E-4602-B628-A6930745CF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9237-F93D-43AF-85B4-CE1A766269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5512-D4E7-4A75-A350-B4AEC64713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F850-F6DB-4DDA-A740-E29A81FF6E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A26D-9FBA-4358-800B-6A71D8BC6A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3003-6A3A-422A-A1A0-3C235B3A95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7C1D-B0FD-456E-8313-2F0DBE90C2D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6650-4E44-433B-AA9B-9B43DB03E0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9EE1-3C29-4D74-97DB-F4C22FA86D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2308-44BC-404A-A3BD-FE1DEF99B9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34DE-98AC-45FE-B216-E0B25A4AA6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C716-CBE3-4650-8152-8F4F8E2EFF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9B0A-70CE-4AFF-B9B6-2B791D840F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4C95-297F-4FE7-8D75-75E7FBAF5C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22C6-2D20-4C3D-9B97-1FAE7709C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C448-AF6F-48B9-B977-BC62877A71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4A71-A9D0-47DF-A137-BEC79D409D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6E18-30BC-4893-876C-5314F51946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CE03-7D2C-4252-B67B-0DF3F8AFD0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B8F29-B70A-43B2-A91B-220602ACC3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645D0-2BD3-4ECD-933B-96F86A7B4B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F5520-2F5C-4D42-8B7F-284C6F47A0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21227-4AE0-425A-B2D5-292AB44E63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0D7D3-F7D1-44BB-88A8-FC6B834827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A7E53-FEDD-4763-A807-0646FE141F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EEBDD-465D-4C3B-9272-90E0A22AC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739E-A47A-4B76-A6F4-8D30692D6D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0074A-7315-42BD-96DD-6315738760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86F78-894C-4421-8BD0-28E744600D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C5FB5-0B59-40B0-9C2D-F4B730561D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6B4DD-19C7-4617-AFAB-EB5100181C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8C911-B444-4F7C-9BD0-F7586BE2FB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F3EF5-9FEB-4A8A-B527-BA404F5F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C79D1-1364-4F18-8A64-5FE89350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10CF7-CD60-499E-8C35-12C7919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3B53F-AA8A-4296-A22F-C18CEA0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B6D07-20BB-412C-92AC-1313FB8B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F673-AE0D-48AB-AAB7-B2CC226001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0CEB6-21DB-4A7F-A1F1-6B3E387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AB514-F6FD-4375-AAC3-F716FE2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ED31D-623D-4862-9A9E-52E0BB0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A04DA-7405-4604-8E16-7F3D18B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A65D7-8FD9-42D5-85E6-A2F9E06F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687D7-7D84-40D6-B159-C006CB51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05304-4E4F-45AE-B82A-1009C2EF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4008F-3EBA-44A3-BECD-476B4FF9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56C00-44D5-486C-820C-94C6B96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3C98D-4D39-4926-BFD7-EFA09D7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Pro"/>
              </a:rPr>
              <a:t>SH Platform, 22 Jun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0D2-E5FD-492C-86AF-A201F9F34977}" type="slidenum">
              <a:rPr b="1" lang="en-GB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BE5F-6FF9-419C-AF3A-B05FFD2847F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4059-6468-443A-B1F4-63A7C7B8421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3FE9-4EBA-4ACF-8174-E5115394726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D52-205D-4A29-B136-D155342B92E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B190-DE40-4AB9-ABEB-9A13593F9FC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069-FD70-4F96-933A-1ED2C5142F3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3620-A3F3-4B36-A6DD-479C5017794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2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D189-B93E-4E2B-BB97-637C1092F02D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4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6F24-6CE6-4D38-ACB5-728FB3BE08F5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5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4A6-24C1-4FE8-A247-FBD4098BEE1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750-12E7-4287-9D9E-DEB71E06A45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D4A-CC44-43F2-8562-45C990C08CF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C77-D9DC-474F-9B64-1BFBCF033E6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0E0-3E43-408B-82DE-3F82808BF7B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D9A1-5A00-41F9-9FD7-2D4508B44C1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658-9C85-481B-AD9F-9BF9DBD7AFD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E4E-C042-409C-963D-A0FB9FDE87B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ADAF-DFA6-4543-8852-CF0B064FCA9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479-C71A-4713-B291-B173143589D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77E-2094-4BA0-9D03-3255D14009F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ftr" idx="74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sldNum" idx="7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A52-7FBA-4DB0-83A9-BFA629026039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34E-2577-46FA-8946-32BECC164E6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DD9-655A-426A-9DD3-63700A848C5D}" type="slidenum">
              <a:rPr b="1" lang="en-GB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5" descr="140259-EFSA_PPTemplate_v5-hom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487320" y="3686040"/>
            <a:ext cx="45975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de70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Subtitle or location, </a:t>
            </a:r>
            <a:fld id="{A62CA6AE-C560-4F1E-9264-AEBA9816C06C}" type="datetime"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07/29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481560" y="2339640"/>
            <a:ext cx="51019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1717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Main title 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space for a longer title on two or more 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E7F9-738C-4B6B-A411-39CA7E52DDAE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6856-8B82-4074-AB37-8531B76A6D1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F961-2998-465F-A706-E0CD90FE3DD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39F-A0A9-4479-BA5B-C783F05C10F9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589.htm" TargetMode="External"/><Relationship Id="rId2" Type="http://schemas.openxmlformats.org/officeDocument/2006/relationships/hyperlink" Target="http://www.efsa.europa.eu/en/efsajournal/pub/3471.htm" TargetMode="External"/><Relationship Id="rId3" Type="http://schemas.openxmlformats.org/officeDocument/2006/relationships/hyperlink" Target="http://www.efsa.europa.eu/en/efsajournal/pub/3472.htm" TargetMode="External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1532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Current trends and developments in the risk assessment of plant protection products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Mr Chris Lythgo</a:t>
            </a:r>
            <a:br>
              <a:rPr sz="20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esticides Unit</a:t>
            </a: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73120" y="5468760"/>
            <a:ext cx="8128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Myriad Pro"/>
              </a:rPr>
              <a:t>Visit of the Brazilian technical mission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ffffff"/>
                </a:solidFill>
                <a:latin typeface="Myriad Pro"/>
              </a:rPr>
              <a:t>EFSA, Parma 10 October 2014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4"/>
          <p:cNvSpPr/>
          <p:nvPr/>
        </p:nvSpPr>
        <p:spPr>
          <a:xfrm>
            <a:off x="4859280" y="1268280"/>
            <a:ext cx="403380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EW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rotected Crops: 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20 March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Estimation of soil DegT</a:t>
            </a:r>
            <a:r>
              <a:rPr b="1" lang="en-GB" sz="1400" spc="-1" strike="noStrike">
                <a:solidFill>
                  <a:srgbClr val="171796"/>
                </a:solidFill>
                <a:latin typeface="Verdana"/>
              </a:rPr>
              <a:t>50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in May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826920" y="4292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 Guidance on Risk assessment of Be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Republished in 2014 (ref date 2013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Has been re-structured  and complemented with a “Calculator” for facilitating its u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21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Improving guidance use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“Calculators” and Info Ses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36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991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Stakeholder involve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F9A-BF43-457B-B2D2-A3EEB6BAE3E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9" name="TextBox 7"/>
          <p:cNvSpPr/>
          <p:nvPr/>
        </p:nvSpPr>
        <p:spPr>
          <a:xfrm>
            <a:off x="4932360" y="1413000"/>
            <a:ext cx="3456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Public consultat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exposure for operators, workers, residents and bystand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Until 20 May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324000" y="4437000"/>
            <a:ext cx="3960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Info Sess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protected crops and soil degradation rat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17-18 Jun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Registration until 30 Apri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41" name="Picture 2" descr="https://dam.efsa.europa.eu/mediabin/PreviewImage.asp?type=4&amp;repoid=%7bA8594A13-106E-479C-A080-3BA76EE9FFE8%7d&amp;version=8&amp;validate=NLFPLGNSKJ&amp;md=2-25-201111-18-06AM"/>
          <p:cNvPicPr/>
          <p:nvPr/>
        </p:nvPicPr>
        <p:blipFill>
          <a:blip r:embed="rId1"/>
          <a:stretch/>
        </p:blipFill>
        <p:spPr>
          <a:xfrm>
            <a:off x="6875640" y="2781360"/>
            <a:ext cx="1626840" cy="10792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https://dam.efsa.europa.eu/mediabin/PreviewImage.asp?type=4&amp;repoid=%7bAB033EB3-5803-4C47-B6B7-7B294F55EC65%7d&amp;version=3&amp;validate=NLFPLGNSKJ&amp;md=4-20-20092-58-57PM"/>
          <p:cNvPicPr/>
          <p:nvPr/>
        </p:nvPicPr>
        <p:blipFill>
          <a:blip r:embed="rId2"/>
          <a:stretch/>
        </p:blipFill>
        <p:spPr>
          <a:xfrm>
            <a:off x="3564000" y="5445000"/>
            <a:ext cx="1452600" cy="9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0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79819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5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6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7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8" name="Straight Arrow Connector 18"/>
          <p:cNvCxnSpPr>
            <a:stCxn id="1246" idx="3"/>
            <a:endCxn id="1247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9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0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1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53" name="Straight Arrow Connector 24"/>
          <p:cNvCxnSpPr>
            <a:stCxn id="1251" idx="3"/>
            <a:endCxn id="1252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3" descr="European Dossier41"/>
          <p:cNvPicPr/>
          <p:nvPr/>
        </p:nvPicPr>
        <p:blipFill>
          <a:blip r:embed="rId1"/>
          <a:stretch/>
        </p:blipFill>
        <p:spPr>
          <a:xfrm>
            <a:off x="233280" y="2111400"/>
            <a:ext cx="1300320" cy="812880"/>
          </a:xfrm>
          <a:prstGeom prst="rect">
            <a:avLst/>
          </a:prstGeom>
          <a:ln w="9360">
            <a:solidFill>
              <a:srgbClr val="171796"/>
            </a:solidFill>
            <a:miter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6000" y="115920"/>
            <a:ext cx="79203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eer review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(legal framework Reg. (EC) No 1107/2009)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56" name="Immagine 3" descr="eu stati membri.png"/>
          <p:cNvPicPr/>
          <p:nvPr/>
        </p:nvPicPr>
        <p:blipFill>
          <a:blip r:embed="rId2"/>
          <a:srcRect l="2052" t="1326" r="2052" b="11559"/>
          <a:stretch/>
        </p:blipFill>
        <p:spPr>
          <a:xfrm>
            <a:off x="235080" y="3143160"/>
            <a:ext cx="1296720" cy="1160640"/>
          </a:xfrm>
          <a:prstGeom prst="rect">
            <a:avLst/>
          </a:prstGeom>
          <a:ln w="0">
            <a:noFill/>
          </a:ln>
        </p:spPr>
      </p:pic>
      <p:sp>
        <p:nvSpPr>
          <p:cNvPr id="1257" name="CasellaDiTesto 4"/>
          <p:cNvSpPr/>
          <p:nvPr/>
        </p:nvSpPr>
        <p:spPr>
          <a:xfrm>
            <a:off x="179280" y="1197000"/>
            <a:ext cx="1368360" cy="6426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Dossier submission 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8" name="CasellaDiTesto 5"/>
          <p:cNvSpPr/>
          <p:nvPr/>
        </p:nvSpPr>
        <p:spPr>
          <a:xfrm>
            <a:off x="1714680" y="5369040"/>
            <a:ext cx="1056960" cy="36828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EFSA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9" name="CasellaDiTesto 6"/>
          <p:cNvSpPr/>
          <p:nvPr/>
        </p:nvSpPr>
        <p:spPr>
          <a:xfrm>
            <a:off x="3147840" y="2116080"/>
            <a:ext cx="2000520" cy="18594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179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FSA, RapporteurMS, other MSs,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U Commission, Notifier, Public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grpSp>
        <p:nvGrpSpPr>
          <p:cNvPr id="1260" name="Group 31"/>
          <p:cNvGrpSpPr/>
          <p:nvPr/>
        </p:nvGrpSpPr>
        <p:grpSpPr>
          <a:xfrm>
            <a:off x="5686560" y="1531800"/>
            <a:ext cx="3133440" cy="2554920"/>
            <a:chOff x="5686560" y="1531800"/>
            <a:chExt cx="3133440" cy="2554920"/>
          </a:xfrm>
        </p:grpSpPr>
        <p:sp>
          <p:nvSpPr>
            <p:cNvPr id="1261" name="CasellaDiTesto 8"/>
            <p:cNvSpPr/>
            <p:nvPr/>
          </p:nvSpPr>
          <p:spPr>
            <a:xfrm>
              <a:off x="5707080" y="1531800"/>
              <a:ext cx="311292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1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mmenting phase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2" name="CasellaDiTesto 9"/>
            <p:cNvSpPr/>
            <p:nvPr/>
          </p:nvSpPr>
          <p:spPr>
            <a:xfrm>
              <a:off x="5692680" y="2249280"/>
              <a:ext cx="3127320" cy="70380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2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valuation of comments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3" name="CasellaDiTesto 10"/>
            <p:cNvSpPr/>
            <p:nvPr/>
          </p:nvSpPr>
          <p:spPr>
            <a:xfrm>
              <a:off x="5686560" y="3111480"/>
              <a:ext cx="313344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3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xpert’s consultat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4" name="CasellaDiTesto 11"/>
            <p:cNvSpPr/>
            <p:nvPr/>
          </p:nvSpPr>
          <p:spPr>
            <a:xfrm>
              <a:off x="5729400" y="3687840"/>
              <a:ext cx="309060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4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pic>
        <p:nvPicPr>
          <p:cNvPr id="1265" name="Picture 12" descr=""/>
          <p:cNvPicPr/>
          <p:nvPr/>
        </p:nvPicPr>
        <p:blipFill>
          <a:blip r:embed="rId3"/>
          <a:stretch/>
        </p:blipFill>
        <p:spPr>
          <a:xfrm>
            <a:off x="210960" y="4653000"/>
            <a:ext cx="1343160" cy="1893960"/>
          </a:xfrm>
          <a:prstGeom prst="rect">
            <a:avLst/>
          </a:prstGeom>
          <a:ln w="9360">
            <a:solidFill>
              <a:srgbClr val="5050e4"/>
            </a:solidFill>
            <a:miter/>
          </a:ln>
        </p:spPr>
      </p:pic>
      <p:cxnSp>
        <p:nvCxnSpPr>
          <p:cNvPr id="1266" name="Straight Arrow Connector 14"/>
          <p:cNvCxnSpPr/>
          <p:nvPr/>
        </p:nvCxnSpPr>
        <p:spPr>
          <a:xfrm flipH="1">
            <a:off x="882000" y="2923920"/>
            <a:ext cx="1080" cy="29124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67" name="Straight Arrow Connector 17"/>
          <p:cNvCxnSpPr/>
          <p:nvPr/>
        </p:nvCxnSpPr>
        <p:spPr>
          <a:xfrm flipH="1">
            <a:off x="882360" y="4303800"/>
            <a:ext cx="2160" cy="35136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sp>
        <p:nvSpPr>
          <p:cNvPr id="1268" name="CasellaDiTesto 4"/>
          <p:cNvSpPr/>
          <p:nvPr/>
        </p:nvSpPr>
        <p:spPr>
          <a:xfrm>
            <a:off x="395280" y="5661000"/>
            <a:ext cx="9748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DAR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Draf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Assessment Repor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69" name="Straight Arrow Connector 20"/>
          <p:cNvCxnSpPr>
            <a:endCxn id="1258" idx="1"/>
          </p:cNvCxnSpPr>
          <p:nvPr/>
        </p:nvCxnSpPr>
        <p:spPr>
          <a:xfrm>
            <a:off x="1554120" y="5600520"/>
            <a:ext cx="161280" cy="108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70" name="Elbow Connector 23"/>
          <p:cNvCxnSpPr>
            <a:stCxn id="1258" idx="3"/>
            <a:endCxn id="1259" idx="1"/>
          </p:cNvCxnSpPr>
          <p:nvPr/>
        </p:nvCxnSpPr>
        <p:spPr>
          <a:xfrm flipV="1">
            <a:off x="2771280" y="3053880"/>
            <a:ext cx="376920" cy="2547360"/>
          </a:xfrm>
          <a:prstGeom prst="bentConnector3">
            <a:avLst>
              <a:gd name="adj1" fmla="val 50000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1" name="Left Brace 25"/>
          <p:cNvSpPr/>
          <p:nvPr/>
        </p:nvSpPr>
        <p:spPr>
          <a:xfrm>
            <a:off x="5219640" y="15318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92360"/>
              <a:gd name="textAreaBottom" fmla="*/ 25830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9154"/>
                </a:lnTo>
                <a:cubicBezTo>
                  <a:pt x="10800" y="9279"/>
                  <a:pt x="5400" y="9404"/>
                  <a:pt x="0" y="9404"/>
                </a:cubicBezTo>
                <a:cubicBezTo>
                  <a:pt x="5400" y="9404"/>
                  <a:pt x="10800" y="9529"/>
                  <a:pt x="10800" y="9654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72" name="TextBox 26"/>
          <p:cNvSpPr/>
          <p:nvPr/>
        </p:nvSpPr>
        <p:spPr>
          <a:xfrm>
            <a:off x="5076720" y="4653000"/>
            <a:ext cx="3743280" cy="12830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ing Committee on the Food Chain and Animal Health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CoFCAH = EC +MSs)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73" name="Shape 28"/>
          <p:cNvCxnSpPr>
            <a:stCxn id="1264" idx="3"/>
            <a:endCxn id="1272" idx="3"/>
          </p:cNvCxnSpPr>
          <p:nvPr/>
        </p:nvCxnSpPr>
        <p:spPr>
          <a:xfrm>
            <a:off x="8819640" y="3917520"/>
            <a:ext cx="2520" cy="1428120"/>
          </a:xfrm>
          <a:prstGeom prst="bentConnector3">
            <a:avLst>
              <a:gd name="adj1" fmla="val 14383333"/>
            </a:avLst>
          </a:prstGeom>
          <a:ln w="31680">
            <a:solidFill>
              <a:srgbClr val="171796"/>
            </a:solidFill>
            <a:round/>
            <a:tailEnd len="med" type="triangle" w="med"/>
          </a:ln>
        </p:spPr>
      </p:cxnSp>
      <p:sp>
        <p:nvSpPr>
          <p:cNvPr id="1274" name="TextBox 66"/>
          <p:cNvSpPr/>
          <p:nvPr/>
        </p:nvSpPr>
        <p:spPr>
          <a:xfrm>
            <a:off x="5076720" y="6165720"/>
            <a:ext cx="3743280" cy="368280"/>
          </a:xfrm>
          <a:prstGeom prst="rect">
            <a:avLst/>
          </a:prstGeom>
          <a:solidFill>
            <a:srgbClr val="111171"/>
          </a:solidFill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al/Non Approva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ossier content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y dossier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mplete dossier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th full text of individual tests and study reports (studies involving deliberate administration to humans are not accepte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n line with the data requiremen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cientific peer-reviewed open literature over the last 10 years (active substance &amp; metabolites)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9D5-4143-48A3-91C4-80CE9D082E8B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Dossier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39640" y="11970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epresentative uses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ies and results of tests and studies for each data requirement 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Vertebrate studies: justification on steps for avoiding animal testing and du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hecklist demonstrating completenes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When relevant copy of an Maximum Residue Levels (MRL) applic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ssessment of the information submitted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indent="37008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DC3D-78C3-4A5E-8304-52949AEA3569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9" descr=""/>
          <p:cNvPicPr/>
          <p:nvPr/>
        </p:nvPicPr>
        <p:blipFill>
          <a:blip r:embed="rId1"/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 Study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5B19-9051-403F-9CF4-C6E3CA80D0BA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4" name="TextBox 18"/>
          <p:cNvSpPr/>
          <p:nvPr/>
        </p:nvSpPr>
        <p:spPr>
          <a:xfrm>
            <a:off x="539640" y="1484280"/>
            <a:ext cx="19447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MATERIALS &amp; METHOD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experimental conditions,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5" name="TextBox 19"/>
          <p:cNvSpPr/>
          <p:nvPr/>
        </p:nvSpPr>
        <p:spPr>
          <a:xfrm>
            <a:off x="2627280" y="2924280"/>
            <a:ext cx="1944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the relevant experimental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6" name="TextBox 20"/>
          <p:cNvSpPr/>
          <p:nvPr/>
        </p:nvSpPr>
        <p:spPr>
          <a:xfrm>
            <a:off x="5724360" y="1268280"/>
            <a:ext cx="230364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SUPPORTING INFORM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demonstrating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7" name="TextBox 21"/>
          <p:cNvSpPr/>
          <p:nvPr/>
        </p:nvSpPr>
        <p:spPr>
          <a:xfrm>
            <a:off x="5580000" y="3933720"/>
            <a:ext cx="302436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KEY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 allowing verific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8" name="TextBox 22"/>
          <p:cNvSpPr/>
          <p:nvPr/>
        </p:nvSpPr>
        <p:spPr>
          <a:xfrm>
            <a:off x="5940360" y="5877000"/>
            <a:ext cx="230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9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raft Assessment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ccffff">
              <a:alpha val="64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Presents the risk assessment outcome from the rapporteur Member State (RM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ncludes the summary study reports for each relevant study commented by the RM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Describes the risk assessment output and RMS comments for each endpoint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published by EFSA for comment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updated with new information if releva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189-74ED-44FD-B9DA-B7197C8B752F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EFSA Conclus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8000" y="112536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utput of a scientific peer review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dentity and Phys/Chem properti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ammalian Toxicology &amp; Workers/bystander/residents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s &amp; Consumer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cotoxicology &amp; Ecosystem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ducted by EFSA scientific staff and risk assessment experts from the Member St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e PPR Panel is not involved, except occasionally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24776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tretch/>
        </p:blipFill>
        <p:spPr>
          <a:xfrm>
            <a:off x="7596360" y="4365720"/>
            <a:ext cx="120780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7" name="Picture 4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016000" cy="282564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conclusions overview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94 conclusions published since 1 January 2013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New active substances Reg. 188/2011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Confirmatory data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rt 21 and amendments of approval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New elements for 2014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AIR II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new actives Reg. 1107/2009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0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183-E204-424A-B0AA-CCBC52E1D8F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88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89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0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1" name="Straight Arrow Connector 18"/>
          <p:cNvCxnSpPr>
            <a:stCxn id="1189" idx="3"/>
            <a:endCxn id="1190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92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3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4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5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6" name="Straight Arrow Connector 24"/>
          <p:cNvCxnSpPr>
            <a:stCxn id="1194" idx="3"/>
            <a:endCxn id="1195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ecent and ongoing activiti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Selected examples:</a:t>
            </a:r>
            <a:endParaRPr b="0" lang="en-US" sz="36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General issu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sessment of Endocrine Disruptor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pecific mand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isk of neonicotinoids and fipronil to be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vised assessment of chlorpyrifo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icrobi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523-0096-49D4-9FEC-255DF532CA3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ndocrine effec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opinion of EFSA Scientific Committee opinion published in 2013, the assessment will focus on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four axes with available tests: oestrogen, androgen, thyroid or steroidogenesis (EAT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identification of additional concerns from relevant apical studies, information from the literature search, or other information sourc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6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645-D972-41BC-AAD1-378BF2847EA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27DA-E533-4625-9FCB-516181DDD8E3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08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34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yriad Pro"/>
              </a:rPr>
              <a:t>EFSA Conclusions risk for Bees </a:t>
            </a:r>
            <a:r>
              <a:rPr b="0" lang="fr-FR" sz="2800" spc="-1" strike="noStrike">
                <a:solidFill>
                  <a:srgbClr val="ffffff"/>
                </a:solidFill>
                <a:latin typeface="Myriad Pro"/>
              </a:rPr>
              <a:t>(seed treatments, soil applications)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738-0152-49E8-9F57-24525493CA9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590560" cy="370692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2" name="Picture 4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2610000" cy="3673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3" name="Picture 5" descr=""/>
          <p:cNvPicPr/>
          <p:nvPr/>
        </p:nvPicPr>
        <p:blipFill>
          <a:blip r:embed="rId3"/>
          <a:stretch/>
        </p:blipFill>
        <p:spPr>
          <a:xfrm>
            <a:off x="2556000" y="1773360"/>
            <a:ext cx="2566800" cy="3646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sp>
        <p:nvSpPr>
          <p:cNvPr id="1314" name="TextBox 10"/>
          <p:cNvSpPr/>
          <p:nvPr/>
        </p:nvSpPr>
        <p:spPr>
          <a:xfrm>
            <a:off x="324000" y="5732640"/>
            <a:ext cx="6298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Neonicotinoids: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 Published 16 January 2013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ipronil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: Published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27 May 2013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5" name="Picture 5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2567160" cy="364680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2122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Resul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B055-6722-4DE7-8EFA-0A10032A8DD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79280" y="1628640"/>
          <a:ext cx="6264360" cy="5094360"/>
        </p:xfrm>
        <a:graphic>
          <a:graphicData uri="http://schemas.openxmlformats.org/drawingml/2006/table">
            <a:tbl>
              <a:tblPr/>
              <a:tblGrid>
                <a:gridCol w="1728720"/>
                <a:gridCol w="1403640"/>
                <a:gridCol w="1566720"/>
                <a:gridCol w="1565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UST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Pollen and Necta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Guttati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Clothianidi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Imidaclopri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Sunflower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Thiamethoxam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Fipronil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</a:tbl>
          </a:graphicData>
        </a:graphic>
      </p:graphicFrame>
      <p:sp>
        <p:nvSpPr>
          <p:cNvPr id="1319" name="Rectangle 4"/>
          <p:cNvSpPr/>
          <p:nvPr/>
        </p:nvSpPr>
        <p:spPr>
          <a:xfrm>
            <a:off x="6588000" y="2492280"/>
            <a:ext cx="216072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9a9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For many of the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authorised use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and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several aspects of the risk assessments 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not enough data were available to finalise the evaluation or data were not sufficien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179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 identified (acute risk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933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50920" y="1915920"/>
            <a:ext cx="8748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In June 2013, EFSA received a mandate to review the risk assessment for the PPPs applied as foliar spray, containing thiamethoxam, clothianidin and imidacloprid;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rom February to May 2014, EFSA conducted a peer review of study protocol submitted by the companies;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EFSA may be requested by the EC to review the new information. 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Chlorpyrifo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Conclusion on the peer review of the pesticide human health risk assessment of the active substance chlorpyrifo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ublished on 22 April 2014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Based on the use of the Red Blood Cell cholinesterase inhibition to derive the reference valu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is approach was endorsed by the PPR Panel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roposes new ADI and AOEL of 0.001 mg/kg bw per day, and an ARfD of 0.005 mg/kg bw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commends to set two separate residue definitions and to perform two separate consumer risk assessments, for chlorpyrifos and TCP respectively </a:t>
            </a:r>
            <a:r>
              <a:rPr b="0" lang="en-GB" sz="2400" spc="-1" strike="noStrike">
                <a:solidFill>
                  <a:srgbClr val="17179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MRL setting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bial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Active substance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’: 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substances, including micro-organism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having general or specific action against harmful organisms or on plants, parts of plants or plant products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substances’: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hemical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 elements and thei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ompound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as they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occur naturally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by manufacture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including impurities from the manufacturing process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micro-organism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’: microbiological entity, including lower fungi and viruses, cellular or non-cellular,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apable of replication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of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transferring genetic material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isk assessment for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pproval criteria for “active substances” (e.g. Annex II Reg. 1107/2009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Uniform principles (e.g. Reg. 546/2011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1. Chemical plant protection produc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2. plant protection products containing micro-organism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ata requirements (e.g. Reg. 283/2013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A. Chemic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B. Microorganisms including virus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9C7-1CE8-4D71-9B1F-AF77B5ED622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0" name="Rounded Rectangle 5"/>
          <p:cNvSpPr/>
          <p:nvPr/>
        </p:nvSpPr>
        <p:spPr>
          <a:xfrm>
            <a:off x="611280" y="5373720"/>
            <a:ext cx="4321080" cy="129528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Chemic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Semiochemical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Microbial toxin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Inert microorganism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1" name="Rounded Rectangle 6"/>
          <p:cNvSpPr/>
          <p:nvPr/>
        </p:nvSpPr>
        <p:spPr>
          <a:xfrm>
            <a:off x="5292720" y="5373720"/>
            <a:ext cx="3311640" cy="136836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Microbi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32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564000" y="5445000"/>
            <a:ext cx="1233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organism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Bacillus pumilus strain QST 2808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ield and greenhouse spraying ap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Streptomyces lydicus WYEC 108: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high volume drench, via drip irrigation systems, seed treat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Zucchini yellow mosaic virus - weak strain (ZYMV-WK) applications by jet injec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36" name="TextBox 5"/>
          <p:cNvSpPr/>
          <p:nvPr/>
        </p:nvSpPr>
        <p:spPr>
          <a:xfrm>
            <a:off x="288720" y="126828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Conclusions cover different taxa and application rout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Panel expertise 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wenty-one independent scientific experts, covering: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Chemical active substance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icrobiological active substanc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Physical-chemical properties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ethods of analysi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oxicology and regulatory 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Non dietary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Dietary exposure and risk assessment of pesticides residues in food and feed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y and population dynamic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ical/Environmental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.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9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02A-272D-4253-84DD-3D4237D371D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0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20000" y="1341360"/>
            <a:ext cx="21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ain basis for the conclu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0920" y="1413000"/>
            <a:ext cx="88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id not cause signs of toxicity, infectivity and pathogenicity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ue to lack of data on the potential production of toxins/metabolites of concern risk assessment cannot be finalised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24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otential risk of infecting and producing adverse effects in animal hosts and humans is low.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isk (effects and transmission) for non-target plants could not be finalise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3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395280" y="0"/>
            <a:ext cx="842472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Data gaps / issues identified in EFS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sticide conclusions on microorganisms: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hods for identify the strai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Interferenc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on prescribed methods of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analysis for pathogens in drinking water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Relationship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lack of) to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known pathoge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ompetitiveness / multiplicatio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ransfer of genetic information to other speci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primary concern plasmids between bacteria specie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apacity for producing metabolit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including other strains of the species, conditions of production.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Production and levels of metabolites in environmental compartme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Ecotoxicity studi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too short to conclude lack of pathogenicity or infectivity to non target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395280" y="260280"/>
            <a:ext cx="849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er reviewed scientific literatur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Systematic review of the available literatur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for the organism strain and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abolit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that the strain or species might produce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following the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May cover other strains of the same or related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When evidence is cited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he paper should be included in the dossier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41" name="Straight Arrow Connector 10"/>
          <p:cNvCxnSpPr>
            <a:endCxn id="1342" idx="1"/>
          </p:cNvCxnSpPr>
          <p:nvPr/>
        </p:nvCxnSpPr>
        <p:spPr>
          <a:xfrm flipV="1">
            <a:off x="2123640" y="5748120"/>
            <a:ext cx="5256720" cy="57600"/>
          </a:xfrm>
          <a:prstGeom prst="straightConnector1">
            <a:avLst/>
          </a:prstGeom>
          <a:ln w="76320">
            <a:solidFill>
              <a:srgbClr val="171796"/>
            </a:solidFill>
            <a:miter/>
            <a:tailEnd len="med" type="triangle" w="med"/>
          </a:ln>
        </p:spPr>
      </p:cxnSp>
      <p:pic>
        <p:nvPicPr>
          <p:cNvPr id="1343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2484360" y="48690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780000" y="551664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" descr="https://dam.efsa.europa.eu/mediabin/PreviewImage.asp?type=4&amp;repoid=%7bFC0615E1-6E08-4091-A6D9-C9955B9124EE%7d&amp;version=5&amp;validate=NLFPLGNSKJ&amp;md=11-29-20125-35-47PM"/>
          <p:cNvPicPr/>
          <p:nvPr/>
        </p:nvPicPr>
        <p:blipFill>
          <a:blip r:embed="rId3"/>
          <a:stretch/>
        </p:blipFill>
        <p:spPr>
          <a:xfrm>
            <a:off x="395280" y="5013360"/>
            <a:ext cx="1725480" cy="1152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https://dam.efsa.europa.eu/mediabin/PreviewImage.asp?type=4&amp;repoid=%7bFC706DC2-41FD-4DD0-830B-4E750A2B7E9C%7d&amp;version=1&amp;validate=NLFPLGNSKJ&amp;md=12-6-20132-31-33PM"/>
          <p:cNvPicPr/>
          <p:nvPr/>
        </p:nvPicPr>
        <p:blipFill>
          <a:blip r:embed="rId4"/>
          <a:stretch/>
        </p:blipFill>
        <p:spPr>
          <a:xfrm>
            <a:off x="5435640" y="4581360"/>
            <a:ext cx="1341360" cy="2006640"/>
          </a:xfrm>
          <a:prstGeom prst="rect">
            <a:avLst/>
          </a:prstGeom>
          <a:ln w="0">
            <a:noFill/>
          </a:ln>
        </p:spPr>
      </p:pic>
      <p:sp>
        <p:nvSpPr>
          <p:cNvPr id="1347" name="TextBox 11"/>
          <p:cNvSpPr/>
          <p:nvPr/>
        </p:nvSpPr>
        <p:spPr>
          <a:xfrm>
            <a:off x="553320" y="6165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5691240" y="4724280"/>
            <a:ext cx="872640" cy="459720"/>
          </a:xfrm>
          <a:prstGeom prst="rect">
            <a:avLst/>
          </a:prstGeom>
          <a:solidFill>
            <a:srgbClr val="fb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AT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9" name="TextBox 11"/>
          <p:cNvSpPr/>
          <p:nvPr/>
        </p:nvSpPr>
        <p:spPr>
          <a:xfrm>
            <a:off x="241128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0" name="TextBox 12"/>
          <p:cNvSpPr/>
          <p:nvPr/>
        </p:nvSpPr>
        <p:spPr>
          <a:xfrm>
            <a:off x="370836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1" name="TextBox 13"/>
          <p:cNvSpPr/>
          <p:nvPr/>
        </p:nvSpPr>
        <p:spPr>
          <a:xfrm>
            <a:off x="543564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52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5"/>
          <a:stretch/>
        </p:blipFill>
        <p:spPr>
          <a:xfrm rot="1999200">
            <a:off x="5579640" y="567072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342" name="TextBox 15"/>
          <p:cNvSpPr/>
          <p:nvPr/>
        </p:nvSpPr>
        <p:spPr>
          <a:xfrm>
            <a:off x="7494480" y="5516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9339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MRL reasoned opinions included in EFSA Conclusions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33520" y="1428840"/>
            <a:ext cx="8324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New Conclusion and LOEP template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ll be as a stand-alone document containing </a:t>
            </a: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also the information needed to provide the reasoned EFSA opinion on MRL proposals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.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MRL applications on import tolerances should not be assessed as long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 the documentation corresponding national legislation of the exporting country as not been submitted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active substance effectively registered in the exporting country, and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MRL published in the national legislation of the exporting country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6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57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8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9" name="Straight Arrow Connector 18"/>
          <p:cNvCxnSpPr>
            <a:stCxn id="1357" idx="3"/>
            <a:endCxn id="1358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360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1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2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3" name="TextBox 23"/>
          <p:cNvSpPr/>
          <p:nvPr/>
        </p:nvSpPr>
        <p:spPr>
          <a:xfrm>
            <a:off x="4572000" y="3573360"/>
            <a:ext cx="3600360" cy="11912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Provides Conclusions for single active substances to support the EU decision-mak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64" name="Straight Arrow Connector 24"/>
          <p:cNvCxnSpPr>
            <a:stCxn id="1362" idx="3"/>
            <a:endCxn id="1363" idx="1"/>
          </p:cNvCxnSpPr>
          <p:nvPr/>
        </p:nvCxnSpPr>
        <p:spPr>
          <a:xfrm flipV="1">
            <a:off x="3777840" y="4172760"/>
            <a:ext cx="7945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1340-707D-452B-9B48-BC9F2793EF8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U MRL legislat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Myriad Pro"/>
              </a:rPr>
              <a:t>Regulation (EC) No 396/2005 of the European Parliament and of the Council on maximum residue levels in or on food and feed of plant and animal origin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rocedure for MRL setting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Official control of MRL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Definition of responsibilities (role of Member States, European Commission, European Food Safety Authority, manufacturer of pesticides, food business operator, etc.)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Annexes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: List of commodities for which MRLs are established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I and Annex III: List of MRL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V: Active substances exempted from setting MRL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: specific LOQ value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I: processing factor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Basic regulation: </a:t>
            </a:r>
            <a:br>
              <a:rPr sz="1400"/>
            </a:b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http://eur-lex.europa.eu/LexUriServ/LexUriServ.do?uri=OJ:L:2005:070:0001:0016:EN:PDF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MRL reasoned opin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50 RO/year reviewing MRLs for approved/non-approved active substances (Art 12 RO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60-70 RO/year new proposals and modifications of existing MR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urther details in a later present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Procedure for MRL setting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28400" y="1357200"/>
            <a:ext cx="85359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itiated by PPP applicants, growers, importers, food producers, MSs,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cludes a dossier with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GAP (Good Agricultural Practice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 data package (Annex II, chapter 6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oxicological data package (if no EU ADI/ARf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nalytical methods for monitoring/enforcement of MRL in the relevant crop (Annex II, chapter 4.2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Rapporteur MS produces an Evaluation Repor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FSA scientific staff assess the information and conduct a consumers risk assess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6134040" y="447840"/>
            <a:ext cx="250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73" name="TextBox 5"/>
          <p:cNvSpPr/>
          <p:nvPr/>
        </p:nvSpPr>
        <p:spPr>
          <a:xfrm>
            <a:off x="4304880" y="33577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1796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Oval 11"/>
          <p:cNvGrpSpPr/>
          <p:nvPr/>
        </p:nvGrpSpPr>
        <p:grpSpPr>
          <a:xfrm>
            <a:off x="2639880" y="225360"/>
            <a:ext cx="3973680" cy="2262240"/>
            <a:chOff x="2639880" y="225360"/>
            <a:chExt cx="3973680" cy="2262240"/>
          </a:xfrm>
        </p:grpSpPr>
        <p:pic>
          <p:nvPicPr>
            <p:cNvPr id="1202" name="Oval 11" descr=""/>
            <p:cNvPicPr/>
            <p:nvPr/>
          </p:nvPicPr>
          <p:blipFill>
            <a:blip r:embed="rId1"/>
            <a:stretch/>
          </p:blipFill>
          <p:spPr>
            <a:xfrm>
              <a:off x="2639880" y="225360"/>
              <a:ext cx="39736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3265560" y="574560"/>
              <a:ext cx="2727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grpSp>
        <p:nvGrpSpPr>
          <p:cNvPr id="1204" name="Oval 7"/>
          <p:cNvGrpSpPr/>
          <p:nvPr/>
        </p:nvGrpSpPr>
        <p:grpSpPr>
          <a:xfrm>
            <a:off x="731880" y="2548080"/>
            <a:ext cx="7759800" cy="4329000"/>
            <a:chOff x="731880" y="2548080"/>
            <a:chExt cx="7759800" cy="4329000"/>
          </a:xfrm>
        </p:grpSpPr>
        <p:pic>
          <p:nvPicPr>
            <p:cNvPr id="1205" name="Oval 7" descr=""/>
            <p:cNvPicPr/>
            <p:nvPr/>
          </p:nvPicPr>
          <p:blipFill>
            <a:blip r:embed="rId2"/>
            <a:stretch/>
          </p:blipFill>
          <p:spPr>
            <a:xfrm>
              <a:off x="731880" y="2548080"/>
              <a:ext cx="77598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1886040" y="3198960"/>
              <a:ext cx="54547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sp>
        <p:nvSpPr>
          <p:cNvPr id="1207" name="Slide Number Placeholder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EDD-31A3-40C7-9782-7F9D6846F264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8" name="Diagram 2" descr=""/>
          <p:cNvPicPr/>
          <p:nvPr/>
        </p:nvPicPr>
        <p:blipFill>
          <a:blip r:embed="rId3"/>
          <a:stretch/>
        </p:blipFill>
        <p:spPr>
          <a:xfrm>
            <a:off x="603360" y="1407960"/>
            <a:ext cx="8076960" cy="5053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Documents and Settings\reichhe\Local Settings\Temporary Internet Files\Content.IE5\IWDBSYJ6\MC900384206[1].wmf"/>
          <p:cNvPicPr/>
          <p:nvPr/>
        </p:nvPicPr>
        <p:blipFill>
          <a:blip r:embed="rId4"/>
          <a:stretch/>
        </p:blipFill>
        <p:spPr>
          <a:xfrm>
            <a:off x="3286080" y="1428840"/>
            <a:ext cx="1300320" cy="181296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9"/>
          <p:cNvSpPr/>
          <p:nvPr/>
        </p:nvSpPr>
        <p:spPr>
          <a:xfrm>
            <a:off x="2843280" y="1125360"/>
            <a:ext cx="32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Opinions &amp; 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1" name="TextBox 10"/>
          <p:cNvSpPr/>
          <p:nvPr/>
        </p:nvSpPr>
        <p:spPr>
          <a:xfrm>
            <a:off x="2627280" y="551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ientific staff working with Member States exper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2" name="TextBox 12"/>
          <p:cNvSpPr/>
          <p:nvPr/>
        </p:nvSpPr>
        <p:spPr>
          <a:xfrm>
            <a:off x="2987640" y="692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PPR Panel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142920" y="142920"/>
            <a:ext cx="793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"/>
              </a:rPr>
              <a:t>Pesticides Unit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50920" y="148428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1"/>
              </a:rPr>
              <a:t> Good modelling practice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7 March 2014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2"/>
              </a:rPr>
              <a:t> Developmental neurotoxicity potential of acetamiprid and imidacloprid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7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3"/>
              </a:rPr>
              <a:t> Relevance of dissimilar mode of action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3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 on tiered risk assessment for edge-of-field surface water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8 July 2013 Guidance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Cumulative Assessment Groups for Pesticide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2 Jul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High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8 June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Low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7 Februar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utputs 2013- 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3"/>
          <p:cNvSpPr/>
          <p:nvPr/>
        </p:nvSpPr>
        <p:spPr>
          <a:xfrm>
            <a:off x="250920" y="1268280"/>
            <a:ext cx="8569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arthropod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in-soil risk assessment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-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terrestrial pla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mphibians and reptil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on the FERA guidance proposal “Guidance on how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ged sorption studies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r pesticides should be conducted, analysed and used in regulatory assessments” (FERA, 2012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ngoing opinion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icture 14"/>
          <p:cNvSpPr/>
          <p:nvPr/>
        </p:nvSpPr>
        <p:spPr>
          <a:xfrm rot="5400000">
            <a:off x="5615640" y="2258280"/>
            <a:ext cx="27003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179280" y="148428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Myriad Pro"/>
              </a:rPr>
              <a:t>Development of a guidance document : typical sequence of event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dentification of a need / Drafting of a mandat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llection of dat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pinion of the PPR Panel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stablishment of a Working Group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reparation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sultations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doption (or approval) of the Guidanc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ntry into forc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0" name="Picture 4"/>
          <p:cNvSpPr/>
          <p:nvPr/>
        </p:nvSpPr>
        <p:spPr>
          <a:xfrm>
            <a:off x="5214960" y="3429000"/>
            <a:ext cx="345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and 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23" name="TextBox 7"/>
          <p:cNvSpPr/>
          <p:nvPr/>
        </p:nvSpPr>
        <p:spPr>
          <a:xfrm>
            <a:off x="2627280" y="1773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Scientific opinions: as starting point for further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24" name="Elbow Connector 9"/>
          <p:cNvCxnSpPr/>
          <p:nvPr/>
        </p:nvCxnSpPr>
        <p:spPr>
          <a:xfrm>
            <a:off x="2556000" y="3429000"/>
            <a:ext cx="3745440" cy="1440360"/>
          </a:xfrm>
          <a:prstGeom prst="bentConnector3">
            <a:avLst>
              <a:gd name="adj1" fmla="val 58858"/>
            </a:avLst>
          </a:prstGeom>
          <a:ln w="76320">
            <a:solidFill>
              <a:srgbClr val="5050e4"/>
            </a:solidFill>
            <a:round/>
            <a:tailEnd len="med" type="triangle" w="med"/>
          </a:ln>
        </p:spPr>
      </p:cxnSp>
      <p:cxnSp>
        <p:nvCxnSpPr>
          <p:cNvPr id="1225" name="Straight Arrow Connector 13"/>
          <p:cNvCxnSpPr/>
          <p:nvPr/>
        </p:nvCxnSpPr>
        <p:spPr>
          <a:xfrm flipH="1">
            <a:off x="3131640" y="4868640"/>
            <a:ext cx="1728000" cy="1080"/>
          </a:xfrm>
          <a:prstGeom prst="straightConnector1">
            <a:avLst/>
          </a:prstGeom>
          <a:ln w="7632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226" name="TextBox 17"/>
          <p:cNvSpPr/>
          <p:nvPr/>
        </p:nvSpPr>
        <p:spPr>
          <a:xfrm>
            <a:off x="3101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PR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4829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28" name="Picture 1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202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rotection goal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3640" y="1557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regulatory frame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pproval criteria, data requirements, uniform principl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31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280-9CD0-4B3D-856E-D100BCFC3AF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68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43:13Z</dcterms:created>
  <dc:creator>Geert Deveuster</dc:creator>
  <dc:description/>
  <cp:keywords/>
  <dc:language>en-US</dc:language>
  <cp:lastModifiedBy>Lythgo</cp:lastModifiedBy>
  <cp:lastPrinted>1904-01-01T00:00:00Z</cp:lastPrinted>
  <dcterms:modified xsi:type="dcterms:W3CDTF">2014-10-10T06:40:59Z</dcterms:modified>
  <cp:revision>1072</cp:revision>
  <dc:subject/>
  <dc:title>PowerPoint Presentation</dc:title>
</cp:coreProperties>
</file>