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0.wmf" ContentType="image/x-wmf"/>
  <Override PartName="/ppt/media/image11.png" ContentType="image/pn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Num" idx="40"/>
          </p:nvPr>
        </p:nvSpPr>
        <p:spPr>
          <a:xfrm>
            <a:off x="6469200" y="9495720"/>
            <a:ext cx="2556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D439570-8A09-4B07-8C68-7E48A6E2490B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ldImg"/>
          </p:nvPr>
        </p:nvSpPr>
        <p:spPr>
          <a:xfrm>
            <a:off x="-1741680" y="318600"/>
            <a:ext cx="11171160" cy="8379000"/>
          </a:xfrm>
          <a:prstGeom prst="rect">
            <a:avLst/>
          </a:prstGeom>
          <a:noFill/>
          <a:ln w="38160">
            <a:solidFill>
              <a:srgbClr val="00000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56880" y="9343440"/>
            <a:ext cx="57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baua_vorlagen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itel/Logo +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D-Fa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6880" y="271440"/>
            <a:ext cx="849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tzte Se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6"/>
          <p:cNvSpPr/>
          <p:nvPr/>
        </p:nvSpPr>
        <p:spPr>
          <a:xfrm>
            <a:off x="-180000" y="9496080"/>
            <a:ext cx="104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de-DE" sz="1000" spc="-1" strike="noStrike">
                <a:solidFill>
                  <a:srgbClr val="2e59a6"/>
                </a:solidFill>
                <a:latin typeface="Arial"/>
              </a:rPr>
              <a:t>baua_vorlagen.ppt</a:t>
            </a: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-1741320" y="318960"/>
            <a:ext cx="11171160" cy="837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6880" y="271080"/>
            <a:ext cx="8492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usterseit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haltsanga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454-B4BF-4C63-96BD-9286C6B0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1BB-EE46-4C91-8E9C-EE1CA8D8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2388A-4C81-4916-BDFF-C0DC5D99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A5533-28CB-4C2C-B731-73BBEFDF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AD3E5-B676-4D2F-866B-DF2092D1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A2EFD-5C13-4764-A2B7-B29834A1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EBA1E-FCA2-47C8-8441-C5A784A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14C06-B7CA-4BB2-B773-EFE897F3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F9CB8-3A87-4043-9364-C3DEB175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471C0-7C08-48B2-93E0-4752E202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EEFD2-7AAF-4CA0-ABBC-62DA32E7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40D3E-4824-47A3-92C0-D9A8756C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254-6888-4889-A4EB-6FAC2B64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FFAB4-748A-4AF5-A696-DD6E0257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45D66-5C88-4F4B-94A9-8BCC79E3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13AD1-94BD-4804-BBA9-D4A80694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835E3-7ACD-44EC-A2CA-B680AD52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974E5-929B-4169-9E56-DDBCCD47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5D8FE-0F16-42F8-93CD-9F954D23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530B8-E3BD-49F8-9A5E-42D1CE5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7F2C9-9FAB-4ED9-9305-A8ECA86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EEDB5-A650-4EB7-8460-E5B3E7BB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65611-AE14-4D91-8F7B-051DD5F7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36B-B970-45F4-9817-BBA3AB67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64543-97D7-4B6B-9C29-FB9ED9D5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B3E48-FDB5-4B95-8591-B14DE971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2AFD0-BA5B-4737-8EF1-5EE5F6E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583E3-ACCD-4659-9B66-ADE03594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9C950-A9C4-4E49-AFB8-C1D40209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92BF8-99BC-4E0C-B0D5-7104B35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34E25-8467-4637-AEE2-C98812C1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F9235-A57A-4212-A276-9D1B1E8A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4377B-9163-4976-BFFF-C7C7CA20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C8593-083C-4C62-B887-914E5887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440C-8613-4D49-AB9E-C4A01B06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A707E-2E30-455A-9F20-CA4C4380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8DF49-0767-46B2-9BA5-0C26E840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F1A85-01AC-4CE7-A256-57FBD400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C2A3D-773C-4786-86D8-7ADC8F4D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8CBBD-49BA-4EC0-A292-9B05057E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F8C4F-D2A6-49DC-8CC0-511D5335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BB3E3-5896-4250-9953-BDA48B17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4CAD9-D84F-4D1A-97DA-B8E72BAE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28F11-0204-4BA7-B377-2B5E6D6E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0A9AB-FD58-4D6B-94CA-71A6B9A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7ED0-5199-4E37-9DFC-214A7EB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2D322-4F7C-4578-858F-97A5CAC3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D61D5-14D6-4EE8-8525-8F4F1BE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DB19B-161E-4505-B1FF-214231AD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D15CC-1F58-48F4-A35A-F20BEB52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190CD-260E-4132-A20A-2A2FE12B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BABF7-FA9D-46F2-B52F-3D5B12E5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1B7E2-100E-4618-A9F6-D8798EA6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137A6-A4F7-45DA-B42E-E6521C2E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45D45-0517-47CA-866C-F37689E9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98387-CA7E-4758-9989-7EB2C6B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D4F6-80E3-45A4-8C81-BCA71FE3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021EA-9C12-484A-BEEE-EB85689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FCF14-3FA7-4A9F-B4F8-6164B80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D125C-3A53-4809-BC1A-F79F8E5A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F01B4-BFF3-405A-AEF1-F8E3D50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71E82-1F52-4054-B1CE-43D4B463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F6E82-AA86-4040-AE34-375ED914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803D8-82AB-4B5E-8916-B6A317F2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1C50-7787-44E5-8742-6293ECAD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24AB-F0ED-458D-83D1-1FE7FD6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8258-C365-4DB1-8B4D-2FBDFC4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BB67-1D15-4565-BE1C-75662C36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9A6-DA54-4DC9-BE84-F51B43E9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8A26-1718-4942-B3F7-F68A4D2A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1119-CC40-4BE6-861B-EA22BF4D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7F22-39B5-4526-90CE-6051F477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8B95-9B4F-496C-8E71-DC5E3E32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C20C-FBE5-4B80-AE58-962CAFEB7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5198-C59E-4525-9853-94ACD9A0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4FFF-4630-4BD1-9762-9D43904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05DC-AE53-4217-B3E7-C50EDECC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E29F-1816-4284-9558-42714C8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74AD-A241-4380-842C-810C949A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2E1-77BF-453A-A519-449D3F8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A8243-0F99-43E7-A4D0-29A37529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9E09-C914-4E14-98D5-32188A58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98AF-ACD5-46D2-8387-7FF53527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B9EA-587A-4E58-8DB0-75D8ACD3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6F3F-0CDC-4D37-8C98-60BDBD8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DE31-B27E-44D7-9045-03EB8138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8AF09-3C9D-4498-8D10-5609F974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6949-D077-4D44-B7B7-E3C5AC1E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FF04C-23E1-4679-AB93-6CEB308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2832-FBE8-497F-AE74-274C6AEE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B8F-EF7E-433F-A58A-C197FE8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BB5B2-5034-4536-82DA-6FBF2E4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59FA2-FFF9-49CD-9976-625865A5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A42E-5A07-430E-8EF9-94CC7F7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DC72-C6A3-4E4B-9C46-01F9052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A1C7-42F3-4664-9C32-F3E8B608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C510-DC43-4A7B-B47A-3ECBE376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14FA-CDFF-4FFF-80D4-B04AE0BC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4D3D-2896-4C4F-9BE4-6F471DE3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B41B-5549-4132-9642-5808C6CD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2054-1DC1-4009-956C-8F04C350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25C-EBB3-417A-9539-865930DF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703F3-2F28-4681-980E-FD93E631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ADDE-DF56-4E56-842E-8608800A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AAF2-BCAD-4DBE-939D-236DAF6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82FB-1066-43D5-9105-2A767776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B6F8-9B61-413F-93AE-FAFE093C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DFBE-B2FE-486B-BB83-03B7CE77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C2E41-A13B-4931-B439-CA7DEBA4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694F-354F-4DDE-AAFB-3E29CDD4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F475-715F-4BCA-9581-FE1F2E6F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517F-9F47-451D-AC90-58075ED1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E52-60D1-4521-8761-250774E9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EF32-8F61-4A8E-B5D6-7FE56368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BE389-B78F-4C2B-B552-160670CD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3089-F223-476E-96C7-07AF933F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1AC08-EA9E-431A-99B8-9EFD83C2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221DE-BB2D-4F27-9E97-610C215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5DAFF-E9EB-4437-A6C4-FEAA372E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1B36-A6A5-46A1-A7FD-1D13331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BDD1-CBAC-4DA9-B469-A4FCF0F3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B690E-6D43-41FB-8085-7D7F274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ECC6-80E3-4556-8933-DF1FD80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369-71F0-420D-9E9A-C83DB3D4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10E6-D9BE-451D-A2E1-40231C7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54B2-EE2C-481E-A72E-CDC239E9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A56C-493C-4364-B8EA-514DAF04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5BE10-3D6A-4E84-B2D0-267E7584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31977-5DCB-4A7F-B739-D5748463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56859-35A3-4128-8F7A-9DAB9C04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862E0-664F-4CC5-84A8-87305271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F8751-1B2C-45E8-9BA6-14F77439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E48D7-09E3-45CE-A486-6A067CB0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1F10D-7446-4B4B-8D27-E46A3CD8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9B3-FF0C-4785-BFFE-5A7BBFF0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2BDA-B65A-4553-A7C6-4647EF9D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9C13-103A-4686-9A71-AC0BED01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76E1-BB16-4164-8BCF-16DFEE2B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79C89-12B8-4956-ADDA-4D31C7B6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D2B63-A95B-409F-B293-2A12348F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BFC42-E98C-4CF3-8711-82415B57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A89C2-EC61-4DDC-A03F-E0C0DB1F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D90F6-83DD-4151-81B6-94B8BC8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0114-181C-4B50-BBCF-92235813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26598-27D7-4515-9387-49353958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360-D99F-4BA3-957B-C95D7FE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13000" y="433440"/>
            <a:ext cx="8118000" cy="33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8236B-2369-4D03-918B-66211C7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6C305-662D-48EB-9A0B-763B976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3D179-7DB1-41A3-B920-AB12042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3FD5-22A2-41BD-93A9-13E2B4BB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91720" y="4040280"/>
            <a:ext cx="7363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20323-45E6-49D3-8F88-114BB5BA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880" y="193320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89172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64880" y="4040280"/>
            <a:ext cx="359316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280CD-ACEA-48B6-AD2F-007661F2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8112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70880" y="193320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8917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8112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70880" y="4040280"/>
            <a:ext cx="23706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11C44-6A22-44E2-BCB7-7CAA9087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C6DAC-1EEB-47D9-B539-38DFE149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0E4AF-189F-493C-8256-9BD10BB4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26B88-4CDB-432F-887D-EB46854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B2A-CEAF-45F2-A7F8-F52E43D2760B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7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0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D6FC-FCC6-4093-8BC5-B61E94945C23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5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F369-B78A-4E93-9B37-C4510F798B7D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9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C75A-0F74-4E01-88F3-6183ED8EB8BD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54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73F4-1B49-4EF8-B1CD-1774D2BBF7A8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6"/>
          <p:cNvSpPr/>
          <p:nvPr/>
        </p:nvSpPr>
        <p:spPr>
          <a:xfrm>
            <a:off x="0" y="417600"/>
            <a:ext cx="9144000" cy="34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48" name="Picture 19" descr="logo_baua_Title"/>
          <p:cNvPicPr/>
          <p:nvPr/>
        </p:nvPicPr>
        <p:blipFill>
          <a:blip r:embed="rId2">
            <a:lum contrast="6000"/>
          </a:blip>
          <a:srcRect l="4980" t="0" r="3991" b="0"/>
          <a:stretch/>
        </p:blipFill>
        <p:spPr>
          <a:xfrm>
            <a:off x="898560" y="585720"/>
            <a:ext cx="7392960" cy="2603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 rot="16200000">
            <a:off x="-122760" y="5505840"/>
            <a:ext cx="7174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899640" y="6426360"/>
            <a:ext cx="42116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193320" y="654768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4EBF-CD90-4912-88D4-EC26B9FB98CB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9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AFB7-6CB1-4667-A37C-4DD832F55418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3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586-FD03-44EC-8E7A-0BBDB5D7352B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18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465B-3957-4018-B5BB-8FEE5CDD1344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2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70EE-8978-49D8-A98D-9C4313C8788F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27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E68-BB0D-4DD8-9509-41D63928BD8C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17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18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8B8-EC05-424D-A00C-FB970BE92C7A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0" y="6305400"/>
            <a:ext cx="9144000" cy="557280"/>
          </a:xfrm>
          <a:prstGeom prst="rect">
            <a:avLst/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2" name="Line 22"/>
          <p:cNvSpPr/>
          <p:nvPr/>
        </p:nvSpPr>
        <p:spPr>
          <a:xfrm>
            <a:off x="0" y="63054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363" name="Picture 23" descr="logo_baua_pp"/>
          <p:cNvPicPr/>
          <p:nvPr/>
        </p:nvPicPr>
        <p:blipFill>
          <a:blip r:embed="rId2"/>
          <a:srcRect l="4934" t="12841" r="6597" b="23925"/>
          <a:stretch/>
        </p:blipFill>
        <p:spPr>
          <a:xfrm>
            <a:off x="6885000" y="6367320"/>
            <a:ext cx="1816200" cy="378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1720" y="1933200"/>
            <a:ext cx="73630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2" marL="762120" indent="-28728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3" marL="114300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4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5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6" marL="1619280" indent="-190440">
              <a:lnSpc>
                <a:spcPct val="120000"/>
              </a:lnSpc>
              <a:spcAft>
                <a:spcPts val="901"/>
              </a:spcAft>
              <a:buClr>
                <a:srgbClr val="2e59a6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 rot="16200000">
            <a:off x="-201600" y="5402160"/>
            <a:ext cx="8953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899640" y="6451200"/>
            <a:ext cx="421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National and EU Activities on the Inspection of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193320" y="6573240"/>
            <a:ext cx="3762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2445-FABA-4EF1-A6E3-3B4F611A1195}" type="slidenum">
              <a:rPr b="0" lang="de-DE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AutoShape 6"/>
          <p:cNvSpPr/>
          <p:nvPr/>
        </p:nvSpPr>
        <p:spPr>
          <a:xfrm>
            <a:off x="406440" y="3097080"/>
            <a:ext cx="8307360" cy="3022560"/>
          </a:xfrm>
          <a:prstGeom prst="roundRect">
            <a:avLst>
              <a:gd name="adj" fmla="val 7065"/>
            </a:avLst>
          </a:prstGeom>
          <a:solidFill>
            <a:srgbClr val="58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National and EU Activitie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200" spc="-1" strike="noStrike">
                <a:solidFill>
                  <a:srgbClr val="ffffff"/>
                </a:solidFill>
                <a:latin typeface="Arial"/>
              </a:rPr>
              <a:t>on the Inspection of Chemicals</a:t>
            </a:r>
            <a:endParaRPr b="0" lang="en-US" sz="4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atja vom Hofe, BAu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209520" y="6392880"/>
            <a:ext cx="7209000" cy="341280"/>
          </a:xfrm>
          <a:prstGeom prst="roundRect">
            <a:avLst>
              <a:gd name="adj" fmla="val 7065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Visit of the Ministry of Environment of Brazil – 10 April 2013 – BAuA,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66AD-2175-42EB-8B07-D2C0A331C5F6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687240" y="1643040"/>
            <a:ext cx="80679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triggered by information received from / through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6"/>
          <p:cNvSpPr/>
          <p:nvPr/>
        </p:nvSpPr>
        <p:spPr>
          <a:xfrm rot="21154200">
            <a:off x="1125360" y="326232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market surveillanc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0" name="Text Box 20"/>
          <p:cNvSpPr/>
          <p:nvPr/>
        </p:nvSpPr>
        <p:spPr>
          <a:xfrm>
            <a:off x="2425680" y="430992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other inspection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1" name="Text Box 21"/>
          <p:cNvSpPr/>
          <p:nvPr/>
        </p:nvSpPr>
        <p:spPr>
          <a:xfrm rot="21157800">
            <a:off x="1173240" y="54658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2" name="Text Box 23"/>
          <p:cNvSpPr/>
          <p:nvPr/>
        </p:nvSpPr>
        <p:spPr>
          <a:xfrm rot="475200">
            <a:off x="6032160" y="465948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ac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3" name="Text Box 24"/>
          <p:cNvSpPr/>
          <p:nvPr/>
        </p:nvSpPr>
        <p:spPr>
          <a:xfrm rot="591600">
            <a:off x="5196960" y="3295800"/>
            <a:ext cx="24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>
            <a:off x="4911840" y="5510160"/>
            <a:ext cx="24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incidents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5" name="Oval 26"/>
          <p:cNvSpPr/>
          <p:nvPr/>
        </p:nvSpPr>
        <p:spPr>
          <a:xfrm rot="21150000">
            <a:off x="809640" y="30351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6" name="Oval 27"/>
          <p:cNvSpPr/>
          <p:nvPr/>
        </p:nvSpPr>
        <p:spPr>
          <a:xfrm rot="618000">
            <a:off x="4820760" y="305388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7" name="Oval 28"/>
          <p:cNvSpPr/>
          <p:nvPr/>
        </p:nvSpPr>
        <p:spPr>
          <a:xfrm rot="487800">
            <a:off x="5648400" y="443232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8" name="Oval 29"/>
          <p:cNvSpPr/>
          <p:nvPr/>
        </p:nvSpPr>
        <p:spPr>
          <a:xfrm rot="21150000">
            <a:off x="816120" y="5214960"/>
            <a:ext cx="3208320" cy="85104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1719360" y="4130640"/>
            <a:ext cx="3208320" cy="851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0" name="Oval 31"/>
          <p:cNvSpPr/>
          <p:nvPr/>
        </p:nvSpPr>
        <p:spPr>
          <a:xfrm>
            <a:off x="1951200" y="404820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1" name="Oval 32"/>
          <p:cNvSpPr/>
          <p:nvPr/>
        </p:nvSpPr>
        <p:spPr>
          <a:xfrm>
            <a:off x="4500720" y="5261040"/>
            <a:ext cx="3208320" cy="850680"/>
          </a:xfrm>
          <a:prstGeom prst="ellipse">
            <a:avLst/>
          </a:prstGeom>
          <a:noFill/>
          <a:ln w="1260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3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220-5466-428B-B735-185FFDB41448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84280" y="1743120"/>
            <a:ext cx="75978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ools of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formation and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uidance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 dutyhold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dministrative interven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panies are often willing to collaborate with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auth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mmon goal: registrants’ compliance 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cases of non-compliance: administrative orde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880" y="454320"/>
            <a:ext cx="80748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290" descr=""/>
          <p:cNvPicPr/>
          <p:nvPr/>
        </p:nvPicPr>
        <p:blipFill>
          <a:blip r:embed="rId1"/>
          <a:srcRect l="0" t="0" r="5039" b="0"/>
          <a:stretch/>
        </p:blipFill>
        <p:spPr>
          <a:xfrm rot="1156800">
            <a:off x="7768800" y="2452680"/>
            <a:ext cx="882720" cy="1006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91" descr=""/>
          <p:cNvPicPr/>
          <p:nvPr/>
        </p:nvPicPr>
        <p:blipFill>
          <a:blip r:embed="rId2"/>
          <a:srcRect l="0" t="0" r="5039" b="0"/>
          <a:stretch/>
        </p:blipFill>
        <p:spPr>
          <a:xfrm rot="874200">
            <a:off x="7515000" y="2487240"/>
            <a:ext cx="917280" cy="1025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92" descr="reach1"/>
          <p:cNvPicPr/>
          <p:nvPr/>
        </p:nvPicPr>
        <p:blipFill>
          <a:blip r:embed="rId3"/>
          <a:stretch/>
        </p:blipFill>
        <p:spPr>
          <a:xfrm>
            <a:off x="7253280" y="2549520"/>
            <a:ext cx="1058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85C5-4DC5-4BB6-A64D-84CADB414AB5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566640" y="1701720"/>
            <a:ext cx="7962840" cy="42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German objectiv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Need to be ensured at national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and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EU level !!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t national and EU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AutoShape 9"/>
          <p:cNvSpPr/>
          <p:nvPr/>
        </p:nvSpPr>
        <p:spPr>
          <a:xfrm rot="10800000">
            <a:off x="928440" y="5241600"/>
            <a:ext cx="377640" cy="228600"/>
          </a:xfrm>
          <a:prstGeom prst="leftArrow">
            <a:avLst>
              <a:gd name="adj1" fmla="val 50009"/>
              <a:gd name="adj2" fmla="val 5899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6,-58,32)"/>
                                      </p:to>
                                    </p:se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6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A904-054D-4EDC-9D8F-B9E3B8DBF181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723960" y="1504800"/>
            <a:ext cx="809604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Forum for Exchange of Information on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mposi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ody of the European Chemicals Agency, ECHA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ne member from each of the 27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+ non-voting members from the European Commiss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rmonization of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REACH, CLP and PI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 the EU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he For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5829480" y="4805280"/>
            <a:ext cx="2701800" cy="1089000"/>
          </a:xfrm>
          <a:prstGeom prst="rect">
            <a:avLst/>
          </a:prstGeom>
          <a:ln w="1260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8C89-B90E-4A7A-8321-7A0875CCF9D6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596880" y="1676520"/>
            <a:ext cx="801540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ifferent legal systems in 27 Member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Varying organizational structur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petencies within different authorities (MSCA / NEA*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ystems of sanctions / penal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219240" y="4957920"/>
            <a:ext cx="8451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ed approach to enforce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= comparable enforcement, </a:t>
            </a:r>
            <a:r>
              <a:rPr b="1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no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uniform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9"/>
          <p:cNvSpPr/>
          <p:nvPr/>
        </p:nvSpPr>
        <p:spPr>
          <a:xfrm>
            <a:off x="1697040" y="5094360"/>
            <a:ext cx="277920" cy="152280"/>
          </a:xfrm>
          <a:prstGeom prst="rightArrow">
            <a:avLst>
              <a:gd name="adj1" fmla="val 64963"/>
              <a:gd name="adj2" fmla="val 45846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75" name="Picture 12" descr=""/>
          <p:cNvPicPr/>
          <p:nvPr/>
        </p:nvPicPr>
        <p:blipFill>
          <a:blip r:embed="rId1"/>
          <a:stretch/>
        </p:blipFill>
        <p:spPr>
          <a:xfrm>
            <a:off x="6956280" y="1793880"/>
            <a:ext cx="1857600" cy="11811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7"/>
          <p:cNvSpPr/>
          <p:nvPr/>
        </p:nvSpPr>
        <p:spPr>
          <a:xfrm>
            <a:off x="3102120" y="3803760"/>
            <a:ext cx="5446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2e59a6"/>
                </a:solidFill>
                <a:latin typeface="Arial"/>
              </a:rPr>
              <a:t>*MSCA = Member State Competent Authority, NEA = National Enforcement Authority</a:t>
            </a:r>
            <a:endParaRPr b="0" lang="en-US" sz="11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E9FC-874E-4DD5-A15E-50D527AE1A02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731880" y="1463760"/>
            <a:ext cx="80154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Practical solu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Development of best practice docum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xchange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ed enforceme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nnual “Train-the-Trainers” even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Manual with “practical cases” and Forum conclus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Common Information Exchange System (IT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monization of Enforcement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8" descr="EU_flags"/>
          <p:cNvPicPr/>
          <p:nvPr/>
        </p:nvPicPr>
        <p:blipFill>
          <a:blip r:embed="rId1"/>
          <a:srcRect l="0" t="52906" r="0" b="17276"/>
          <a:stretch/>
        </p:blipFill>
        <p:spPr>
          <a:xfrm>
            <a:off x="1193760" y="5218200"/>
            <a:ext cx="3583080" cy="7286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1" descr="Flag_of_Europe"/>
          <p:cNvPicPr/>
          <p:nvPr/>
        </p:nvPicPr>
        <p:blipFill>
          <a:blip r:embed="rId2"/>
          <a:stretch/>
        </p:blipFill>
        <p:spPr>
          <a:xfrm>
            <a:off x="6178680" y="5267160"/>
            <a:ext cx="1047600" cy="698760"/>
          </a:xfrm>
          <a:prstGeom prst="rect">
            <a:avLst/>
          </a:prstGeom>
          <a:ln w="0">
            <a:noFill/>
          </a:ln>
        </p:spPr>
      </p:pic>
      <p:sp>
        <p:nvSpPr>
          <p:cNvPr id="683" name="AutoShape 12"/>
          <p:cNvSpPr/>
          <p:nvPr/>
        </p:nvSpPr>
        <p:spPr>
          <a:xfrm>
            <a:off x="5224320" y="5491080"/>
            <a:ext cx="406440" cy="217440"/>
          </a:xfrm>
          <a:prstGeom prst="rightArrow">
            <a:avLst>
              <a:gd name="adj1" fmla="val 50000"/>
              <a:gd name="adj2" fmla="val 46730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Espaço Reservado para Rodapé 3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5" name="Espaço Reservado para Número de Slide 4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0AF-3434-4FCB-B038-165DF5E5D7AB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6" name="AutoShape 2"/>
          <p:cNvSpPr/>
          <p:nvPr/>
        </p:nvSpPr>
        <p:spPr>
          <a:xfrm>
            <a:off x="476280" y="371520"/>
            <a:ext cx="8292960" cy="2336760"/>
          </a:xfrm>
          <a:prstGeom prst="roundRect">
            <a:avLst>
              <a:gd name="adj" fmla="val 6181"/>
            </a:avLst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518040" y="1070640"/>
            <a:ext cx="8223840" cy="775800"/>
          </a:xfrm>
          <a:prstGeom prst="rect">
            <a:avLst/>
          </a:prstGeom>
          <a:noFill/>
          <a:ln w="0">
            <a:noFill/>
          </a:ln>
        </p:spPr>
        <p:txBody>
          <a:bodyPr lIns="360000" rIns="360000" tIns="144000" bIns="144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hank you for listening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AutoShape 4"/>
          <p:cNvSpPr/>
          <p:nvPr/>
        </p:nvSpPr>
        <p:spPr>
          <a:xfrm>
            <a:off x="3240000" y="2911320"/>
            <a:ext cx="5505480" cy="2536920"/>
          </a:xfrm>
          <a:prstGeom prst="roundRect">
            <a:avLst>
              <a:gd name="adj" fmla="val 6181"/>
            </a:avLst>
          </a:prstGeom>
          <a:noFill/>
          <a:ln w="38160">
            <a:solidFill>
              <a:srgbClr val="587a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560760" y="3009960"/>
            <a:ext cx="50371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Katja vom Hof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Institute for Occupational Safety and Health (BAuA)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ederal Office for Chemicals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riedrich-Henkel-Weg 1-25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D-44149 Dortmund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ChemG@baua.bund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e59a6"/>
                </a:solidFill>
                <a:latin typeface="Arial"/>
              </a:rPr>
              <a:t>Further Information:  </a:t>
            </a:r>
            <a:r>
              <a:rPr b="1" lang="de-DE" sz="1400" spc="-1" strike="noStrike">
                <a:solidFill>
                  <a:srgbClr val="2e59a6"/>
                </a:solidFill>
                <a:latin typeface="Arial"/>
              </a:rPr>
              <a:t>www.baua.de</a:t>
            </a: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7B74-62F7-4497-A33E-68FD3A3631CF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701640" y="1577880"/>
            <a:ext cx="771228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National Activities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rganizational Structur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National Strategies for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Enforcement Activities in German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International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The Forum of the European Chemicals Agenc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Harmonization of Enforcement Activ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8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2AB7-C17F-4AA2-8F01-D794939B5D42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17400" y="1519200"/>
            <a:ext cx="8096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16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responsible for th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 Chemicals Legisl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cording to the German Chemicals Ac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independent with regard to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forcement structures, strategies and prioriti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-  different geographic, industrial and economic situa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Northrhine-Westphalia:  17,8 million inhabitants, focus: manufacture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2e59a6"/>
                </a:solidFill>
                <a:latin typeface="Arial"/>
              </a:rPr>
              <a:t>-   Hamburg:  500.000 inhabitants, focus: import</a:t>
            </a: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 rot="5400000">
            <a:off x="8064000" y="3394080"/>
            <a:ext cx="1008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Map: NordNordWest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02" name="Picture 15" descr=""/>
          <p:cNvPicPr/>
          <p:nvPr/>
        </p:nvPicPr>
        <p:blipFill>
          <a:blip r:embed="rId1"/>
          <a:stretch/>
        </p:blipFill>
        <p:spPr>
          <a:xfrm>
            <a:off x="6719760" y="1606680"/>
            <a:ext cx="17766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4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DEB-8D2B-45D8-B498-76F2527EEA58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593280" y="1528560"/>
            <a:ext cx="789948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Tasks of the Federal Stat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Organization of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nat’l enforcement authorities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(NEA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at relevant levels (ministry / regional / district leve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Provision of personal and financial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resource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Education and training</a:t>
            </a:r>
            <a:r>
              <a:rPr b="1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of enforce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2e59a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qualification of inspector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e59a6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-   </a:t>
            </a:r>
            <a:r>
              <a:rPr b="0" lang="en-US" sz="2400" spc="-1" strike="noStrike" u="sng">
                <a:solidFill>
                  <a:srgbClr val="2e59a6"/>
                </a:solidFill>
                <a:uFillTx/>
                <a:latin typeface="Arial"/>
              </a:rPr>
              <a:t>Information and guidance</a:t>
            </a:r>
            <a:r>
              <a:rPr b="0" lang="en-US" sz="2400" spc="-1" strike="noStrike">
                <a:solidFill>
                  <a:srgbClr val="2e59a6"/>
                </a:solidFill>
                <a:latin typeface="Arial"/>
              </a:rPr>
              <a:t> for dutyholders (optional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711360" y="560556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  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Cooperation and harmonization need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08" name="AutoShape 7"/>
          <p:cNvSpPr/>
          <p:nvPr/>
        </p:nvSpPr>
        <p:spPr>
          <a:xfrm>
            <a:off x="1320840" y="573732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1419-CF2E-4FC4-BA7E-A250E6188062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712800" y="1465200"/>
            <a:ext cx="7866000" cy="47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Harmonization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Working Committee of the Federal Government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nd the States on Chemical Safety  (BLAC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xchange of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Coordination of joint project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wareness raising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ment of a common enforcement strateg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2e59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513000" y="433440"/>
            <a:ext cx="811800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Organizational Stru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rcRect l="0" t="0" r="6301" b="0"/>
          <a:stretch/>
        </p:blipFill>
        <p:spPr>
          <a:xfrm>
            <a:off x="6748560" y="3483000"/>
            <a:ext cx="13366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5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86AF-642F-40CF-B85E-3C4AB90A4287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2720" y="1590840"/>
            <a:ext cx="799308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y for the Market Surveillance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Developed and revised by BLAC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 strategies for each Federal State –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flect the specific conditions in each stat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ramework strategies: leave room for additional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inspections triggered by up-to-date inform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Strategies are regularly revised and adapted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9240" y="5357880"/>
            <a:ext cx="326880" cy="217440"/>
          </a:xfrm>
          <a:prstGeom prst="rightArrow">
            <a:avLst>
              <a:gd name="adj1" fmla="val 50000"/>
              <a:gd name="adj2" fmla="val 37583"/>
            </a:avLst>
          </a:prstGeom>
          <a:solidFill>
            <a:srgbClr val="587ab8"/>
          </a:solidFill>
          <a:ln w="9360">
            <a:solidFill>
              <a:srgbClr val="2e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1"/>
          <a:srcRect l="0" t="0" r="3151" b="0"/>
          <a:stretch/>
        </p:blipFill>
        <p:spPr>
          <a:xfrm>
            <a:off x="7394400" y="2305080"/>
            <a:ext cx="12589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1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41A5-10D8-4758-806A-2F7545C4A059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574560" y="1481040"/>
            <a:ext cx="796284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mote the safe 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handling of chemical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nsure environmental and human health standard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Educate dutyholders and provide guid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vide a level playing field on the EU marke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:  Strate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6" descr="formulator"/>
          <p:cNvPicPr/>
          <p:nvPr/>
        </p:nvPicPr>
        <p:blipFill>
          <a:blip r:embed="rId1"/>
          <a:srcRect l="0" t="6121" r="5968" b="3060"/>
          <a:stretch/>
        </p:blipFill>
        <p:spPr>
          <a:xfrm>
            <a:off x="4110120" y="1519200"/>
            <a:ext cx="4195800" cy="2633760"/>
          </a:xfrm>
          <a:prstGeom prst="rect">
            <a:avLst/>
          </a:prstGeom>
          <a:ln w="9360">
            <a:solidFill>
              <a:srgbClr val="2e59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6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58E0-33C5-476F-9B75-BD52AB200D8D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704880" y="1693800"/>
            <a:ext cx="7907400" cy="43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desktop studies + company visits, if necessary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Active vs Re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activel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decide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enfor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Reactive Enforcement</a:t>
            </a: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= enforcement authority </a:t>
            </a:r>
            <a:r>
              <a:rPr b="0" lang="de-DE" sz="2400" spc="-1" strike="noStrike" u="sng">
                <a:solidFill>
                  <a:srgbClr val="2e59a6"/>
                </a:solidFill>
                <a:uFillTx/>
                <a:latin typeface="Arial"/>
              </a:rPr>
              <a:t>reacts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 to a certain situation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Espaço Reservado para Rodapé 4"/>
          <p:cNvSpPr/>
          <p:nvPr/>
        </p:nvSpPr>
        <p:spPr>
          <a:xfrm>
            <a:off x="900000" y="6451560"/>
            <a:ext cx="421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e59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04040"/>
                </a:solidFill>
                <a:latin typeface="Arial"/>
              </a:rPr>
              <a:t>National and EU Activities on the Inspection of Chemicals</a:t>
            </a:r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0" name="Espaço Reservado para Número de Slide 5"/>
          <p:cNvSpPr/>
          <p:nvPr/>
        </p:nvSpPr>
        <p:spPr>
          <a:xfrm>
            <a:off x="193680" y="6573600"/>
            <a:ext cx="37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03F-62D9-474C-B3B1-15BEC7BD149D}" type="slidenum">
              <a:rPr b="0" lang="de-DE" sz="12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619200" y="1701720"/>
            <a:ext cx="803592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e59a6"/>
                </a:solidFill>
                <a:latin typeface="Arial"/>
              </a:rPr>
              <a:t>Inspections  –  Active Enforcement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based on risk-related market surveillance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often in the course of specific inspection projects: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focus on specific substances and / or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product-types (PAHs in tyres)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e59a6"/>
              </a:solidFill>
              <a:latin typeface="Arial"/>
            </a:endParaRPr>
          </a:p>
          <a:p>
            <a:pPr lvl="1" marL="284040" indent="-282600">
              <a:lnSpc>
                <a:spcPct val="100000"/>
              </a:lnSpc>
              <a:buClr>
                <a:srgbClr val="2e59a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e59a6"/>
                </a:solidFill>
                <a:latin typeface="Arial"/>
              </a:rPr>
              <a:t>additionally: information / awareness-raising campaigns</a:t>
            </a:r>
            <a:endParaRPr b="0" lang="en-US" sz="2400" spc="-1" strike="noStrike">
              <a:solidFill>
                <a:srgbClr val="2e59a6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37120" y="433800"/>
            <a:ext cx="8069760" cy="714960"/>
          </a:xfrm>
          <a:prstGeom prst="rect">
            <a:avLst/>
          </a:prstGeom>
          <a:solidFill>
            <a:srgbClr val="587ab8"/>
          </a:solidFill>
          <a:ln w="19080">
            <a:solidFill>
              <a:srgbClr val="587ab8"/>
            </a:solidFill>
            <a:miter/>
          </a:ln>
        </p:spPr>
        <p:txBody>
          <a:bodyPr lIns="360000" rIns="360000" tIns="144000" bIns="144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Enforcement Activities in German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17" descr="Used_tyres_(2)_-_geograph"/>
          <p:cNvPicPr/>
          <p:nvPr/>
        </p:nvPicPr>
        <p:blipFill>
          <a:blip r:embed="rId1"/>
          <a:stretch/>
        </p:blipFill>
        <p:spPr>
          <a:xfrm>
            <a:off x="6278400" y="3684600"/>
            <a:ext cx="2090880" cy="139068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8"/>
          <p:cNvSpPr/>
          <p:nvPr/>
        </p:nvSpPr>
        <p:spPr>
          <a:xfrm rot="5400000">
            <a:off x="8099280" y="4772160"/>
            <a:ext cx="718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2e59a6"/>
                </a:solidFill>
                <a:latin typeface="Arial"/>
              </a:rPr>
              <a:t>Source: Ukko</a:t>
            </a:r>
            <a:endParaRPr b="0" lang="en-US" sz="600" spc="-1" strike="noStrike">
              <a:solidFill>
                <a:srgbClr val="2e59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6:34:44Z</dcterms:created>
  <dc:creator>d1224</dc:creator>
  <dc:description/>
  <dc:language>en-US</dc:language>
  <cp:lastModifiedBy>Ibama</cp:lastModifiedBy>
  <cp:lastPrinted>2004-05-03T19:40:53Z</cp:lastPrinted>
  <dcterms:modified xsi:type="dcterms:W3CDTF">2018-08-16T17:22:06Z</dcterms:modified>
  <cp:revision>105</cp:revision>
  <dc:subject/>
  <dc:title>Folie 1</dc:title>
</cp:coreProperties>
</file>