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5"/>
          </p:nvPr>
        </p:nvSpPr>
        <p:spPr>
          <a:xfrm>
            <a:off x="6442200" y="9480600"/>
            <a:ext cx="279360" cy="1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7A5F0BCF-1A1C-4B6D-9CBD-411AB94BC300}" type="slidenum"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-2206800" y="318600"/>
            <a:ext cx="12103200" cy="8379000"/>
          </a:xfrm>
          <a:prstGeom prst="rect">
            <a:avLst/>
          </a:prstGeom>
          <a:noFill/>
          <a:ln w="38160">
            <a:solidFill>
              <a:srgbClr val="00000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55080" y="9315360"/>
            <a:ext cx="63036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de-DE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baua_vorlagen.pp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-220824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tel/Logo +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D-Fa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-220680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-209520" y="9482760"/>
            <a:ext cx="1160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-2206800" y="318960"/>
            <a:ext cx="12103200" cy="837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5440" y="271440"/>
            <a:ext cx="84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EE41-3012-4EFD-BCDE-C26B734DA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86E7-A9E9-4A69-A954-9812DE753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A360-AA44-4D24-B601-DEEEFAB8C3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25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89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25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89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7940-DD8A-4F14-98DD-C14578C9B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A724C-F215-4B21-A496-453C6368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A897E-3900-4E96-BB9D-760C4C75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EE1A7-7EF8-4760-A851-6854285E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3FC4E-9A7A-492A-96F8-5DBAE402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F3C99-6AB4-42A3-A194-035D155C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52240" y="433440"/>
            <a:ext cx="880092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33D36-68E4-49D9-9B4D-78DF1E79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793F3-C47D-43B5-8792-16CB3DF6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4922-6439-4062-AD42-E6195F506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06750-81FB-4907-A1E8-0E095B36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779EB-AF7E-4623-8C9F-ECF4E0B1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41682-6722-45FD-9318-270C6C49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4C5CD-6B0D-4825-AEB6-DB8C0F07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25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8960" y="175212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25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8960" y="3859200"/>
            <a:ext cx="25678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5622E-8E2B-4302-B951-DA9EAB21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3CC2-EEC6-4060-AE23-A06A6ACAC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F628-F16B-40FF-84C1-E696EC8AB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4A08-F873-4039-81F1-6F508ACF3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52240" y="433440"/>
            <a:ext cx="880092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A33F-09A8-4C4B-9F21-8A190113B8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9A3A-2F69-41E2-B27F-FC9D82EC0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2880" y="385920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EEB8-78E1-4F5D-9927-59EC2EDC2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2880" y="1752120"/>
            <a:ext cx="38919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59200"/>
            <a:ext cx="797544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401A-2360-4CDF-A3DA-A5E41CF82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7f6"/>
            </a:gs>
            <a:gs pos="50000">
              <a:srgbClr val="feffff"/>
            </a:gs>
            <a:gs pos="100000">
              <a:srgbClr val="dee7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300720"/>
            <a:ext cx="990612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Line 22"/>
          <p:cNvSpPr/>
          <p:nvPr/>
        </p:nvSpPr>
        <p:spPr>
          <a:xfrm>
            <a:off x="0" y="63054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" name="Picture 23" descr="logo_baua_pp"/>
          <p:cNvPicPr/>
          <p:nvPr/>
        </p:nvPicPr>
        <p:blipFill>
          <a:blip r:embed="rId2"/>
          <a:srcRect l="4945" t="12841" r="6593" b="23925"/>
          <a:stretch/>
        </p:blipFill>
        <p:spPr>
          <a:xfrm>
            <a:off x="7458120" y="6367320"/>
            <a:ext cx="1968480" cy="3780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3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Text Box 34"/>
          <p:cNvSpPr/>
          <p:nvPr/>
        </p:nvSpPr>
        <p:spPr>
          <a:xfrm>
            <a:off x="2447280" y="6477120"/>
            <a:ext cx="47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34960" indent="-1434960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Dortmund , 10.April 2013</a:t>
            </a:r>
            <a:r>
              <a:rPr b="0" lang="de-DE" sz="12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Text Box 43"/>
          <p:cNvSpPr/>
          <p:nvPr/>
        </p:nvSpPr>
        <p:spPr>
          <a:xfrm>
            <a:off x="746280" y="62816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50760" y="6533640"/>
            <a:ext cx="6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4E22-1476-4531-8F55-29C76B667E9D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e7f6"/>
            </a:gs>
            <a:gs pos="50000">
              <a:srgbClr val="feffff"/>
            </a:gs>
            <a:gs pos="100000">
              <a:srgbClr val="dee7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6"/>
          <p:cNvSpPr/>
          <p:nvPr/>
        </p:nvSpPr>
        <p:spPr>
          <a:xfrm>
            <a:off x="0" y="417600"/>
            <a:ext cx="9906120" cy="34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305400"/>
            <a:ext cx="990612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63054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8" name="Picture 19" descr="logo_baua_Title"/>
          <p:cNvPicPr/>
          <p:nvPr/>
        </p:nvPicPr>
        <p:blipFill>
          <a:blip r:embed="rId2">
            <a:lum contrast="6000"/>
          </a:blip>
          <a:srcRect l="4980" t="0" r="3992" b="0"/>
          <a:stretch/>
        </p:blipFill>
        <p:spPr>
          <a:xfrm>
            <a:off x="973080" y="1004760"/>
            <a:ext cx="8008920" cy="2603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97544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 rot="16200000">
            <a:off x="-108720" y="5506200"/>
            <a:ext cx="7174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DEAB-B74A-49CC-8A76-DE661100752E}" type="datetime"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974520" y="6426360"/>
            <a:ext cx="45622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404040"/>
                </a:solidFill>
                <a:latin typeface="Times New Roman"/>
              </a:rPr>
              <a:t>baua Musters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209160" y="6547680"/>
            <a:ext cx="4078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10A5-6297-4ECB-A713-998D4A079B42}" type="slidenum">
              <a:rPr b="0" lang="de-DE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525600" y="3446640"/>
            <a:ext cx="8899560" cy="2389320"/>
          </a:xfrm>
          <a:prstGeom prst="roundRect">
            <a:avLst>
              <a:gd name="adj" fmla="val 16667"/>
            </a:avLst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German Competent Authority – Dossier Evaluation work </a:t>
            </a:r>
            <a:br>
              <a:rPr sz="2200"/>
            </a:b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ortmund, 10. April 2013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. Dana Rühl</a:t>
            </a:r>
            <a:br>
              <a:rPr sz="20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Federal Office for Chemicals/Authorisation of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Biocide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035B-A68B-46D4-AB94-DDF9D6FC4F7A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Compliance Check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952520" y="1294920"/>
            <a:ext cx="441972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Registrants commenting period (30 d) to react on the draft decision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nalysing submitted Comments can lead to close the compliance check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commenting period of the Member States (MS) is 30 day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If a MS decides to amend the Draft Decision it needs to be referred to the Member States Committee to seek for Agreemen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46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DossierEV_CCH_DD_2_Eng Kopie"/>
          <p:cNvPicPr/>
          <p:nvPr/>
        </p:nvPicPr>
        <p:blipFill>
          <a:blip r:embed="rId2"/>
          <a:stretch/>
        </p:blipFill>
        <p:spPr>
          <a:xfrm>
            <a:off x="685800" y="1219320"/>
            <a:ext cx="400536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9FB1-8FA8-4245-AD6C-90B8E4FBD8FF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DE-CA Commenting period [1]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1620720" y="146376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raft Decis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4038480" y="14479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4114800" y="259092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ossier Evaluatio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(3 Persons)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5867280" y="39276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Work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uA FB4,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36232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afety-relevant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ata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M, Berli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cxnSp>
        <p:nvCxnSpPr>
          <p:cNvPr id="155" name="AutoShape 8"/>
          <p:cNvCxnSpPr>
            <a:stCxn id="150" idx="3"/>
          </p:cNvCxnSpPr>
          <p:nvPr/>
        </p:nvCxnSpPr>
        <p:spPr>
          <a:xfrm>
            <a:off x="3286080" y="1823760"/>
            <a:ext cx="753120" cy="5400"/>
          </a:xfrm>
          <a:prstGeom prst="straightConnector1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</p:cxnSp>
      <p:cxnSp>
        <p:nvCxnSpPr>
          <p:cNvPr id="156" name="AutoShape 9"/>
          <p:cNvCxnSpPr>
            <a:stCxn id="151" idx="2"/>
            <a:endCxn id="152" idx="0"/>
          </p:cNvCxnSpPr>
          <p:nvPr/>
        </p:nvCxnSpPr>
        <p:spPr>
          <a:xfrm>
            <a:off x="4938480" y="2178000"/>
            <a:ext cx="5400" cy="403920"/>
          </a:xfrm>
          <a:prstGeom prst="straightConnector1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</p:cxnSp>
      <p:sp>
        <p:nvSpPr>
          <p:cNvPr id="157" name="Line 10"/>
          <p:cNvSpPr/>
          <p:nvPr/>
        </p:nvSpPr>
        <p:spPr>
          <a:xfrm flipH="1">
            <a:off x="1420920" y="3519360"/>
            <a:ext cx="6981840" cy="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952880" y="3276720"/>
            <a:ext cx="0" cy="2696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143352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662940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320040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4952880" y="350532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411480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Consum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fR, Berlin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7620120" y="39276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ment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UBA, Dessau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609480" y="39276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tance Identity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hysico-Chemic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→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AuA</a:t>
            </a: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fC,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>
            <a:off x="8388360" y="3525840"/>
            <a:ext cx="0" cy="36036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380880" y="3809880"/>
            <a:ext cx="9144000" cy="1752840"/>
          </a:xfrm>
          <a:prstGeom prst="rect">
            <a:avLst/>
          </a:prstGeom>
          <a:noFill/>
          <a:ln w="1908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6114960" y="1447920"/>
            <a:ext cx="313704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downloading all documen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requesting IUCLID file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6095880" y="2590920"/>
            <a:ext cx="320040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hecking all docum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distribution to experts </a:t>
            </a:r>
            <a:r>
              <a:rPr b="0" lang="de-DE" sz="1800" spc="-1" strike="noStrike" baseline="30000">
                <a:solidFill>
                  <a:srgbClr val="2e59a6"/>
                </a:solidFill>
                <a:latin typeface="Arial"/>
              </a:rPr>
              <a:t>*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609480" y="5638680"/>
            <a:ext cx="883944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baseline="30000">
                <a:solidFill>
                  <a:srgbClr val="2e59a6"/>
                </a:solidFill>
                <a:latin typeface="Arial"/>
              </a:rPr>
              <a:t>*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TPE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  <a:ea typeface="Arial"/>
              </a:rPr>
              <a:t>→ participation of experts according to endpoints covered in DD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CH → participation of all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538F-07FF-4FBB-AD1B-6B5C9445F430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MSCA Commenting period [2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4097160" y="415620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ossier Evaluation 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6573960" y="415620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MSC membe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 flipH="1">
            <a:off x="1371240" y="3624120"/>
            <a:ext cx="7010280" cy="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 flipV="1">
            <a:off x="4917960" y="3546000"/>
            <a:ext cx="0" cy="57636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V="1">
            <a:off x="138420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V="1">
            <a:off x="660096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V="1">
            <a:off x="3159000" y="294588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4917960" y="2936520"/>
            <a:ext cx="0" cy="6764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8367840" y="2936880"/>
            <a:ext cx="0" cy="674640"/>
          </a:xfrm>
          <a:prstGeom prst="line">
            <a:avLst/>
          </a:prstGeom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778360" y="4537080"/>
            <a:ext cx="762120" cy="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4952880" y="4886280"/>
            <a:ext cx="0" cy="60948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4135320" y="5527800"/>
            <a:ext cx="165600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CHA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3809880" y="4070520"/>
            <a:ext cx="4648320" cy="914400"/>
          </a:xfrm>
          <a:prstGeom prst="rect">
            <a:avLst/>
          </a:prstGeom>
          <a:noFill/>
          <a:ln w="1908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5867280" y="14130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Work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36232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afety-relevant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411480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uman Health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- Consume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osur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7620120" y="1413000"/>
            <a:ext cx="165564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ment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0" name="AutoShape 20"/>
          <p:cNvSpPr/>
          <p:nvPr/>
        </p:nvSpPr>
        <p:spPr>
          <a:xfrm>
            <a:off x="609480" y="1413000"/>
            <a:ext cx="1656000" cy="155880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 for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tance Identity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hysico-Chemical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040" y="4206960"/>
            <a:ext cx="3139920" cy="64260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greement between DE-CA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d MSC member 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8800-16F6-4657-BF64-ED050A59FC9A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flow – MS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1066680" y="18493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8ca3c0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COM document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1143000" y="320040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99cc00">
              <a:alpha val="25000"/>
            </a:srgbClr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MSC member /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oordination 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1981080" y="3941640"/>
            <a:ext cx="0" cy="706680"/>
          </a:xfrm>
          <a:prstGeom prst="line">
            <a:avLst/>
          </a:prstGeom>
          <a:ln w="28440">
            <a:solidFill>
              <a:srgbClr val="2e59a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143000" y="4689360"/>
            <a:ext cx="1655640" cy="720720"/>
          </a:xfrm>
          <a:prstGeom prst="roundRect">
            <a:avLst>
              <a:gd name="adj" fmla="val 16667"/>
            </a:avLst>
          </a:prstGeom>
          <a:solidFill>
            <a:srgbClr val="5f5f5f"/>
          </a:solidFill>
          <a:ln w="1908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pert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981080" y="2590920"/>
            <a:ext cx="0" cy="609480"/>
          </a:xfrm>
          <a:prstGeom prst="line">
            <a:avLst/>
          </a:prstGeom>
          <a:ln w="28440">
            <a:solidFill>
              <a:srgbClr val="2e59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3352680" y="1795320"/>
            <a:ext cx="5943600" cy="3660120"/>
          </a:xfrm>
          <a:prstGeom prst="rect">
            <a:avLst/>
          </a:prstGeom>
          <a:noFill/>
          <a:ln w="2844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Receiving of RCOM docum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alyzing of the documents – involvement of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ECHAs response to DE-amendment is checked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analysing amendments from other M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Support or reject amendmen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Discussion between MSC member and experts 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2e59a6"/>
                </a:solidFill>
                <a:latin typeface="Arial"/>
              </a:rPr>
              <a:t>Development of DE-MSC opinion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990720" y="3124080"/>
            <a:ext cx="1904760" cy="2438640"/>
          </a:xfrm>
          <a:prstGeom prst="rect">
            <a:avLst/>
          </a:prstGeom>
          <a:noFill/>
          <a:ln w="2844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9F20-F4F3-4BF8-A808-553A7456D91A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51880" y="433080"/>
            <a:ext cx="880164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9754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Thank you for your attention!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Bundesanstalt für Arbeitsschutz und Arbeitsmedizin</a:t>
            </a:r>
            <a:br>
              <a:rPr sz="2000"/>
            </a:b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Friedrich-Henkel-Weg 1-25</a:t>
            </a:r>
            <a:br>
              <a:rPr sz="2000"/>
            </a:b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44149 Dortmund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www.reach-clp-helpdesk.de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marL="380880" indent="0">
              <a:lnSpc>
                <a:spcPct val="14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e59a6"/>
                </a:solidFill>
                <a:latin typeface="Arial"/>
              </a:rPr>
              <a:t>www.baua.de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04" name="Picture 4" descr="BAuA DASA Luftaufn"/>
          <p:cNvPicPr/>
          <p:nvPr/>
        </p:nvPicPr>
        <p:blipFill>
          <a:blip r:embed="rId1"/>
          <a:stretch/>
        </p:blipFill>
        <p:spPr>
          <a:xfrm>
            <a:off x="6553080" y="160020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3DD-1279-4B37-9997-530EFB57765E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gistr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65160" y="495288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Dossiers have to pass the Technical Completeness Check to gain a registration number.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00" name="Picture 12" descr="Registrierung_Eng"/>
          <p:cNvPicPr/>
          <p:nvPr/>
        </p:nvPicPr>
        <p:blipFill>
          <a:blip r:embed="rId1"/>
          <a:stretch/>
        </p:blipFill>
        <p:spPr>
          <a:xfrm>
            <a:off x="990720" y="1371600"/>
            <a:ext cx="6430680" cy="3295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2593-E150-487A-B0EF-D6B032F88586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5181480"/>
            <a:ext cx="797544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05" name="Picture 9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Übersicht_Evaluation_eng"/>
          <p:cNvPicPr/>
          <p:nvPr/>
        </p:nvPicPr>
        <p:blipFill>
          <a:blip r:embed="rId2"/>
          <a:stretch/>
        </p:blipFill>
        <p:spPr>
          <a:xfrm>
            <a:off x="838080" y="1220760"/>
            <a:ext cx="7328160" cy="4721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762120" y="1295280"/>
            <a:ext cx="3504960" cy="472464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ço Reservado para Número de Slide 4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62A-DC16-44EA-927F-48B2DF52C0E4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4572000"/>
            <a:ext cx="807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no study for one endpoint (from Annex IX and X) is available – the Registrant has to propose a Tes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ll submitted and accepted Dossiers are checked if they contain a proposed tes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ny TPE has to be evaluated by ECHA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19384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3184560" y="3386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13" name="Picture 120" descr="DossierEV_Eng"/>
          <p:cNvPicPr/>
          <p:nvPr/>
        </p:nvPicPr>
        <p:blipFill>
          <a:blip r:embed="rId1"/>
          <a:stretch/>
        </p:blipFill>
        <p:spPr>
          <a:xfrm>
            <a:off x="831960" y="1676520"/>
            <a:ext cx="824220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1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2"/>
          <p:cNvSpPr/>
          <p:nvPr/>
        </p:nvSpPr>
        <p:spPr>
          <a:xfrm>
            <a:off x="762120" y="2590920"/>
            <a:ext cx="3276360" cy="19047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E8F7-632B-4752-AC44-5CC560FE27B0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51880" y="433080"/>
            <a:ext cx="880164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5105160"/>
            <a:ext cx="79754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ll animal studies – Third party consultation of 45 day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675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e59a6"/>
                </a:solidFill>
                <a:latin typeface="Arial"/>
              </a:rPr>
              <a:t>after this generation of a Draft  Decision – ECHA can support Registrant choice, can reject the proposed study, or propose another study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19" name="Picture 5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DossierEV_TPE_DD_1_Eng"/>
          <p:cNvPicPr/>
          <p:nvPr/>
        </p:nvPicPr>
        <p:blipFill>
          <a:blip r:embed="rId2"/>
          <a:stretch/>
        </p:blipFill>
        <p:spPr>
          <a:xfrm>
            <a:off x="2057400" y="1295280"/>
            <a:ext cx="5791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6ACC-5BB2-48BB-BCC9-3357770EE5E1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52960" y="434160"/>
            <a:ext cx="8800920" cy="11415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– Overvie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885960" y="1828800"/>
            <a:ext cx="8132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Period for evaluation of all Testing Proposals (TP) of Dossier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&gt; 1000 tons/year (1.12.2010) was 1. December 2012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571 Dossiers containing 1.184 TP to different endpoint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445 Dossiers containing 770 TP for vertebrate studies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e59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8D47-E83D-4465-8F5F-14C136724103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Testing Proposal Examin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248160" y="1295280"/>
            <a:ext cx="335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Registrants commenting period as well commenting period of the Member States (MS) is 30 days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a MS decides to amend the Draft Decision it needs to be referred to the Member States Committee to seek for Agreement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27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ossierEV_TPE_DD_2_Eng"/>
          <p:cNvPicPr/>
          <p:nvPr/>
        </p:nvPicPr>
        <p:blipFill>
          <a:blip r:embed="rId2"/>
          <a:stretch/>
        </p:blipFill>
        <p:spPr>
          <a:xfrm>
            <a:off x="609480" y="1371600"/>
            <a:ext cx="516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ço Reservado para Número de Slide 4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E0DF-75A7-4087-8802-5F8A86AC384E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74880" y="4952880"/>
            <a:ext cx="77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5% of Dossiers of each tonnage band (&gt; 1000 t/a; 100 – 1000 t/a and 1 -100 t/a) needs to be checked for compliance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for 2010 Deadline around 900 Dossiers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193840" y="20145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184560" y="33861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34" name="Picture 6" descr="DossierEV_Eng"/>
          <p:cNvPicPr/>
          <p:nvPr/>
        </p:nvPicPr>
        <p:blipFill>
          <a:blip r:embed="rId1"/>
          <a:stretch/>
        </p:blipFill>
        <p:spPr>
          <a:xfrm>
            <a:off x="831960" y="1676520"/>
            <a:ext cx="8242200" cy="2514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Erläuterung_Eng"/>
          <p:cNvPicPr/>
          <p:nvPr/>
        </p:nvPicPr>
        <p:blipFill>
          <a:blip r:embed="rId2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3505320" y="2819520"/>
            <a:ext cx="5715000" cy="19047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ço Reservado para Número de Slide 3"/>
          <p:cNvSpPr/>
          <p:nvPr/>
        </p:nvSpPr>
        <p:spPr>
          <a:xfrm>
            <a:off x="50760" y="6534000"/>
            <a:ext cx="635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7BA9-9334-4274-A7DF-3DD674CBADCA}" type="slidenum">
              <a:rPr b="0" lang="de-DE" sz="1000" spc="-1" strike="noStrike">
                <a:solidFill>
                  <a:srgbClr val="2e59a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2240" y="433440"/>
            <a:ext cx="880092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valuation - Compliance Check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120" y="4038480"/>
            <a:ext cx="7975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according REACH Regulation - all standard information requirements were checked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751"/>
              </a:spcAft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e59a6"/>
                </a:solidFill>
                <a:latin typeface="Arial"/>
              </a:rPr>
              <a:t>if shortcomings occur – addressing in a Draft Decision  </a:t>
            </a: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40" name="Picture 4" descr="Erläuterung_Eng"/>
          <p:cNvPicPr/>
          <p:nvPr/>
        </p:nvPicPr>
        <p:blipFill>
          <a:blip r:embed="rId1"/>
          <a:stretch/>
        </p:blipFill>
        <p:spPr>
          <a:xfrm>
            <a:off x="8381880" y="5338800"/>
            <a:ext cx="1276560" cy="86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DossierEV_CCH_DD_1_Eng"/>
          <p:cNvPicPr/>
          <p:nvPr/>
        </p:nvPicPr>
        <p:blipFill>
          <a:blip r:embed="rId2"/>
          <a:stretch/>
        </p:blipFill>
        <p:spPr>
          <a:xfrm>
            <a:off x="1447920" y="1371600"/>
            <a:ext cx="6486480" cy="2389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5791320" y="2819520"/>
            <a:ext cx="2590560" cy="1218960"/>
          </a:xfrm>
          <a:prstGeom prst="rect">
            <a:avLst/>
          </a:prstGeom>
          <a:noFill/>
          <a:ln w="38160">
            <a:solidFill>
              <a:srgbClr val="f247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4:46:31Z</dcterms:created>
  <dc:creator>Thomas Breuer</dc:creator>
  <dc:description/>
  <dc:language>en-US</dc:language>
  <cp:lastModifiedBy>Ibama</cp:lastModifiedBy>
  <cp:lastPrinted>2004-05-03T19:40:53Z</cp:lastPrinted>
  <dcterms:modified xsi:type="dcterms:W3CDTF">2018-08-16T17:20:24Z</dcterms:modified>
  <cp:revision>196</cp:revision>
  <dc:subject/>
  <dc:title>Folie 1</dc:title>
</cp:coreProperties>
</file>